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607160" y="2946240"/>
            <a:ext cx="41277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52812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883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22976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12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1269720" y="1066320"/>
            <a:ext cx="10464840" cy="762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84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34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096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1796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740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762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672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928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7365960"/>
            <a:ext cx="1046484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596520" y="493992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596520" y="179028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739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23660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721520" indent="-36936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224208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1269720" y="68068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efdd5"/>
                </a:solidFill>
                <a:latin typeface="Chalkboard"/>
              </a:rPr>
              <a:t>Shape Perspective</a:t>
            </a:r>
            <a:endParaRPr b="0" lang="en-US" sz="6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2"/>
          <a:stretch/>
        </p:blipFill>
        <p:spPr>
          <a:xfrm>
            <a:off x="2819520" y="1827360"/>
            <a:ext cx="7083360" cy="469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1893960" y="185760"/>
            <a:ext cx="10261440" cy="937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" descr=""/>
          <p:cNvPicPr/>
          <p:nvPr/>
        </p:nvPicPr>
        <p:blipFill>
          <a:blip r:embed="rId2"/>
          <a:stretch/>
        </p:blipFill>
        <p:spPr>
          <a:xfrm>
            <a:off x="871560" y="0"/>
            <a:ext cx="12541320" cy="849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5630760" y="4419720"/>
            <a:ext cx="8631360" cy="575316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457200" y="914400"/>
            <a:ext cx="6645240" cy="485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Chalkboard"/>
              </a:rPr>
              <a:t>https://www.youtube.com/watch?v=r54W7KleXIM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1244520" y="444240"/>
            <a:ext cx="11544480" cy="8318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fdd5"/>
                </a:solidFill>
                <a:latin typeface="Verdana Bold"/>
                <a:ea typeface="Verdana Bold"/>
              </a:rPr>
              <a:t>Directions for today’s project:</a:t>
            </a:r>
            <a:r>
              <a:rPr b="0" lang="en-US" sz="2400" spc="-1" strike="noStrike">
                <a:solidFill>
                  <a:srgbClr val="fefdd5"/>
                </a:solidFill>
                <a:latin typeface="Verdana"/>
                <a:ea typeface="Verdan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dd5"/>
                </a:solidFill>
                <a:latin typeface="Verdana"/>
                <a:ea typeface="Verdana"/>
              </a:rPr>
              <a:t>1. Draw a large dot anywhere on your paper – this is your vanishing point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ts val="2336"/>
              </a:lnSpc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dd5"/>
                </a:solidFill>
                <a:latin typeface="Verdana"/>
                <a:ea typeface="Verdana"/>
              </a:rPr>
              <a:t>2. Draw five shapes, using the stencils, on the paper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ts val="2336"/>
              </a:lnSpc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dd5"/>
                </a:solidFill>
                <a:latin typeface="Verdana"/>
                <a:ea typeface="Verdana"/>
              </a:rPr>
              <a:t>3. Using a ruler, draw lines from the corners of the shapes to the dot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ts val="2336"/>
              </a:lnSpc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dd5"/>
                </a:solidFill>
                <a:latin typeface="Verdana"/>
                <a:ea typeface="Verdana"/>
              </a:rPr>
              <a:t>4. Color the shape a dark shade of color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ts val="2336"/>
              </a:lnSpc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dd5"/>
                </a:solidFill>
                <a:latin typeface="Verdana"/>
                <a:ea typeface="Verdana"/>
              </a:rPr>
              <a:t>5. Color inside the drawn lines with a lighter shade of the same color.  Add shading–darker toward the dot and lighter toward the shape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ts val="2336"/>
              </a:lnSpc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dd5"/>
                </a:solidFill>
                <a:latin typeface="Verdana"/>
                <a:ea typeface="Verdana"/>
              </a:rPr>
              <a:t>6. Add lines or arcs to the lines—closer together at the dot and wider toward the shape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ts val="2336"/>
              </a:lnSpc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dd5"/>
                </a:solidFill>
                <a:latin typeface="Verdana"/>
                <a:ea typeface="Verdana"/>
              </a:rPr>
              <a:t>7. Outline and shapes and lines with black marker, being careful to stay on the lines.  Use the stencil and ruler to be really neat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1219320" y="1773360"/>
            <a:ext cx="11048760" cy="736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1434600" y="965160"/>
            <a:ext cx="10464840" cy="8407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dd5"/>
                </a:solidFill>
                <a:latin typeface="Verdana"/>
                <a:ea typeface="Verdana"/>
              </a:rPr>
              <a:t>Perspective is a technique used to create a 3D image on a 2D picture plane (piece of paper).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dd5"/>
                </a:solidFill>
                <a:latin typeface="Verdana"/>
                <a:ea typeface="Verdana"/>
              </a:rPr>
              <a:t>Perspective gives our drawings a 3-D (three dimensional) appearance.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3" name=""/>
          <p:cNvSpPr/>
          <p:nvPr/>
        </p:nvSpPr>
        <p:spPr>
          <a:xfrm>
            <a:off x="2066760" y="2095560"/>
            <a:ext cx="91821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efdd5"/>
                </a:solidFill>
                <a:latin typeface="Chalkboard"/>
                <a:ea typeface="Chalkboard"/>
              </a:rPr>
              <a:t>Perspective Drawing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2357280" y="3517920"/>
            <a:ext cx="8867880" cy="407196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2362320" y="324000"/>
            <a:ext cx="88646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Chalkboard"/>
              </a:rPr>
              <a:t>To Create a Perspective Drawing, you need to start with three things: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1. Vanishing Poin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2. Horizon Line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3. Convergence Line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1176480" y="2011320"/>
            <a:ext cx="10663200" cy="572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2722680" y="0"/>
            <a:ext cx="7564320" cy="547200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1968480" y="5499000"/>
            <a:ext cx="938520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dd5"/>
                </a:solidFill>
                <a:latin typeface="Verdana"/>
                <a:ea typeface="Verdana"/>
              </a:rPr>
              <a:t>Farther away objects will be smaller and have less detail. They are close to the vanishing point and the horizon line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dd5"/>
                </a:solidFill>
                <a:latin typeface="Verdana"/>
                <a:ea typeface="Verdana"/>
              </a:rPr>
              <a:t>Closer objects will be larger and have more detail. They are towards the bottom of the page.</a:t>
            </a:r>
            <a:r>
              <a:rPr b="0" lang="en-US" sz="1300" spc="-1" strike="noStrike">
                <a:solidFill>
                  <a:srgbClr val="262626"/>
                </a:solidFill>
                <a:latin typeface="Verdana"/>
                <a:ea typeface="Verdana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69720" y="659880"/>
            <a:ext cx="10464840" cy="1016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fdd5"/>
                </a:solidFill>
                <a:latin typeface="Chalkboard Bold"/>
                <a:ea typeface="Chalkboard Bold"/>
              </a:rPr>
              <a:t>Julian Beever – British Chalk Pavement Artis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269720" y="926640"/>
            <a:ext cx="10464840" cy="741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dd5"/>
                </a:solidFill>
                <a:latin typeface="Chalkboard"/>
              </a:rPr>
              <a:t>Julian Beever is a British artist who was born in Cheltenham, UK  1959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dd5"/>
                </a:solidFill>
                <a:latin typeface="Chalkboard"/>
              </a:rPr>
              <a:t>Attended state schools and studied Art at Leeds Met. University in UK.1979-83.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dd5"/>
                </a:solidFill>
                <a:latin typeface="Chalkboard"/>
              </a:rPr>
              <a:t>In the mid 1990‘s he started doing 3D chalk pavement drawing.  They are drawn in a special distortion to create an impression of 3D art.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dd5"/>
                </a:solidFill>
                <a:latin typeface="Chalkboard"/>
              </a:rPr>
              <a:t>In order to see the images in 3D, they need to be viewed either through a camera (which he sets up on a tripod for people to look through) or on a mobile phone, ipad or other screen. They do not look 3D to the naked eye.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dd5"/>
                </a:solidFill>
                <a:latin typeface="Chalkboard"/>
              </a:rPr>
              <a:t>Each drawing must be seen from one special viewpoint and if the viewer moves from it the illusion is lost and the drawing becomes an unrecognizable distortion.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dd5"/>
                </a:solidFill>
                <a:latin typeface="Chalkboard"/>
              </a:rPr>
              <a:t>It is often easy to position a person within the image as if they are interacting with the scene.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dd5"/>
                </a:solidFill>
                <a:latin typeface="Chalkboard"/>
              </a:rPr>
              <a:t>Some have called him “the Pavement Picasso”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914400" y="774720"/>
            <a:ext cx="4051440" cy="429264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6019920" y="861840"/>
            <a:ext cx="5524560" cy="702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123840" y="1089000"/>
            <a:ext cx="12090240" cy="802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914400" y="-31680"/>
            <a:ext cx="12471480" cy="9353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