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move the slide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FBAA6-ACBA-4CBB-8475-24FE35C80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C98C7-9BC7-431C-BE11-D43D90EA0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960-496B-4A51-84A9-F5CED9CA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29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436-B7DE-46BE-9497-78EA3994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020-44D3-4432-AAB5-7C961354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80A-AAD1-4D67-9C89-F9364674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EC6-0263-4527-A998-9B588D18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F47-4463-4436-AD76-7A5811CD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46B-5A87-44C0-AABE-A8DC1D50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BBE-43D9-413C-A9F7-11E86787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76000"/>
            <a:ext cx="82296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40D-4A29-4E72-8649-96F05469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51E-2861-44A5-81A6-3447CCED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C22-9F30-4D31-AAC1-9F938CF9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497-5468-4689-B9A7-18327306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7600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2" marL="1143000" indent="-22860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3" marL="1600200" indent="-22860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4" marL="2057400" indent="-228600">
              <a:spcBef>
                <a:spcPts val="64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2EC1D-CD66-4BF9-9AEB-6105F9526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tterLakeArtInTheClassroom.wordpress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73200" y="2414160"/>
            <a:ext cx="8680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Candara"/>
                <a:ea typeface="Candara"/>
              </a:rPr>
              <a:t>Art in the Classroom Grade Level Coordinators</a:t>
            </a:r>
            <a:r>
              <a:rPr b="0" i="1" lang="en-US" sz="2400" spc="-1" strike="noStrike">
                <a:solidFill>
                  <a:srgbClr val="ff0000"/>
                </a:solidFill>
                <a:latin typeface="Candara"/>
                <a:ea typeface="Candara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Erica Johnson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Kindergarten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Ellen Maruyama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Grade 3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Sara McMahon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Grade 1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Heather Smythe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Grade 4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Renée McCabe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Grade 2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Michelle Selb-Sack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Grade 5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Candara"/>
                <a:ea typeface="Candara"/>
              </a:rPr>
              <a:t>Art Adventure Committee</a:t>
            </a:r>
            <a:r>
              <a:rPr b="0" i="1" lang="en-US" sz="2400" spc="-1" strike="noStrike">
                <a:solidFill>
                  <a:srgbClr val="ff0000"/>
                </a:solidFill>
                <a:latin typeface="Candara"/>
                <a:ea typeface="Candara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Megan Baumler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Krista Dickenson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Jill Macioch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Ellen Maruyama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Renée McCabe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JJ Parker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146160" y="1254240"/>
            <a:ext cx="567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5200" spc="-1" strike="noStrike">
                <a:solidFill>
                  <a:srgbClr val="d9d9d9"/>
                </a:solidFill>
                <a:latin typeface="Bolton"/>
                <a:ea typeface="Bolton"/>
              </a:rPr>
              <a:t>2016-2017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658520"/>
            <a:ext cx="7769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ndara"/>
                <a:ea typeface="Candara"/>
              </a:rPr>
              <a:t>Otter Lake Elementary Art Program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ontent Placeholder 2"/>
          <p:cNvSpPr/>
          <p:nvPr/>
        </p:nvSpPr>
        <p:spPr>
          <a:xfrm>
            <a:off x="422280" y="1263600"/>
            <a:ext cx="8062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AITC / Roles &amp;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484960" y="4884840"/>
            <a:ext cx="365904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22280" y="1908000"/>
          <a:ext cx="8272440" cy="4051440"/>
        </p:xfrm>
        <a:graphic>
          <a:graphicData uri="http://schemas.openxmlformats.org/drawingml/2006/table">
            <a:tbl>
              <a:tblPr/>
              <a:tblGrid>
                <a:gridCol w="2757600"/>
                <a:gridCol w="3743280"/>
                <a:gridCol w="1771560"/>
              </a:tblGrid>
              <a:tr h="55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ndara"/>
                          <a:ea typeface="Candara"/>
                        </a:rPr>
                        <a:t>RO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IBI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IT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83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ITC Classroom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rimary contact for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each classroo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Schedule classes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Review online lesson pl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Room set-up and clean u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Lead class discus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ssist stud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2 to 3 hou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er 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2232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ITC Classroom Volunt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Review online lesson pl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Help with set-up and clean u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ssist stud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Cover for Classroom Lead if no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  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vailab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1 to 2 hou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er 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  <p:sp>
        <p:nvSpPr>
          <p:cNvPr id="83" name="TextBox 13"/>
          <p:cNvSpPr/>
          <p:nvPr/>
        </p:nvSpPr>
        <p:spPr>
          <a:xfrm>
            <a:off x="585720" y="6084720"/>
            <a:ext cx="81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Coordinate with classroom schedule and, if wanted, Art Room avail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ontent Placeholder 2"/>
          <p:cNvSpPr/>
          <p:nvPr/>
        </p:nvSpPr>
        <p:spPr>
          <a:xfrm>
            <a:off x="422280" y="1390680"/>
            <a:ext cx="80629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OLE’s Art Programs – Schedu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  <a:ea typeface="Candara"/>
              </a:rPr>
              <a:t>AA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(Novemb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ommittee schedules with teachers 30-min. to 1-hour les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ommittee contacts volunteers to assign classroom dates/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  <a:ea typeface="Candara"/>
              </a:rPr>
              <a:t>AI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lassroom Lead schedules the lesson dates based on classroom and Art Room availability. Most lessons CAN happen in the classro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he Art Room is shared with WBCA, Extended Day (before and af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school) and teachers as they need it throughout the y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ll clay lessons and painting lessons held in the Art Room i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t all possi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457200" y="1511280"/>
            <a:ext cx="8229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Calibri"/>
              </a:rPr>
              <a:t>Thank you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 much for your time and commitment to OLE’s Art Program. We could not bring art to our students without you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pres4.jpg"/>
          <p:cNvPicPr/>
          <p:nvPr/>
        </p:nvPicPr>
        <p:blipFill>
          <a:blip r:embed="rId1"/>
          <a:stretch/>
        </p:blipFill>
        <p:spPr>
          <a:xfrm>
            <a:off x="1779480" y="3160800"/>
            <a:ext cx="3657600" cy="3035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87" name="Picture 5" descr="pres5.jpg"/>
          <p:cNvPicPr/>
          <p:nvPr/>
        </p:nvPicPr>
        <p:blipFill>
          <a:blip r:embed="rId2"/>
          <a:stretch/>
        </p:blipFill>
        <p:spPr>
          <a:xfrm>
            <a:off x="4514760" y="2841480"/>
            <a:ext cx="2840040" cy="222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7160" y="1396800"/>
            <a:ext cx="827064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OLE’s Art Program History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1995 – loss of a full-time art teacher; dedicated OLE families set out to </a:t>
            </a:r>
            <a:endParaRPr b="0" lang="en-US" sz="2000" spc="-1" strike="noStrike">
              <a:solidFill>
                <a:srgbClr val="595959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reate new art offerings.</a:t>
            </a:r>
            <a:endParaRPr b="0" lang="en-US" sz="2000" spc="-1" strike="noStrike">
              <a:solidFill>
                <a:srgbClr val="595959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oday – OLE has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four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art programs:</a:t>
            </a:r>
            <a:endParaRPr b="0" lang="en-US" sz="2000" spc="-1" strike="noStrike">
              <a:solidFill>
                <a:srgbClr val="595959"/>
              </a:solidFill>
              <a:latin typeface="Trebuchet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19360" y="3011400"/>
          <a:ext cx="2774880" cy="1743120"/>
        </p:xfrm>
        <a:graphic>
          <a:graphicData uri="http://schemas.openxmlformats.org/drawingml/2006/table">
            <a:tbl>
              <a:tblPr/>
              <a:tblGrid>
                <a:gridCol w="2774880"/>
              </a:tblGrid>
              <a:tr h="1743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362a"/>
                    </a:solidFill>
                  </a:tcPr>
                </a:tc>
              </a:tr>
            </a:tbl>
          </a:graphicData>
        </a:graphic>
      </p:graphicFrame>
      <p:sp>
        <p:nvSpPr>
          <p:cNvPr id="53" name="TextBox 14"/>
          <p:cNvSpPr/>
          <p:nvPr/>
        </p:nvSpPr>
        <p:spPr>
          <a:xfrm>
            <a:off x="1719360" y="3121200"/>
            <a:ext cx="27748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White Bear Center for the Arts (WB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Six annual art class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taught by WBCA’s Community Art Instructo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14680" y="4867200"/>
          <a:ext cx="2774880" cy="1743120"/>
        </p:xfrm>
        <a:graphic>
          <a:graphicData uri="http://schemas.openxmlformats.org/drawingml/2006/table">
            <a:tbl>
              <a:tblPr/>
              <a:tblGrid>
                <a:gridCol w="2774880"/>
              </a:tblGrid>
              <a:tr h="1743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29240" y="4859280"/>
          <a:ext cx="2774880" cy="1743120"/>
        </p:xfrm>
        <a:graphic>
          <a:graphicData uri="http://schemas.openxmlformats.org/drawingml/2006/table">
            <a:tbl>
              <a:tblPr/>
              <a:tblGrid>
                <a:gridCol w="2774880"/>
              </a:tblGrid>
              <a:tr h="1743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22e"/>
                    </a:solidFill>
                  </a:tcPr>
                </a:tc>
              </a:tr>
            </a:tbl>
          </a:graphicData>
        </a:graphic>
      </p:graphicFrame>
      <p:sp>
        <p:nvSpPr>
          <p:cNvPr id="56" name="TextBox 16"/>
          <p:cNvSpPr/>
          <p:nvPr/>
        </p:nvSpPr>
        <p:spPr>
          <a:xfrm>
            <a:off x="1720800" y="4968720"/>
            <a:ext cx="277344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rt Adventure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(A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MIA’s annual art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program taught by volunteers in Novemb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21320" y="3011400"/>
          <a:ext cx="2774880" cy="1743120"/>
        </p:xfrm>
        <a:graphic>
          <a:graphicData uri="http://schemas.openxmlformats.org/drawingml/2006/table">
            <a:tbl>
              <a:tblPr/>
              <a:tblGrid>
                <a:gridCol w="2774880"/>
              </a:tblGrid>
              <a:tr h="1743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sp>
        <p:nvSpPr>
          <p:cNvPr id="58" name="TextBox 16"/>
          <p:cNvSpPr/>
          <p:nvPr/>
        </p:nvSpPr>
        <p:spPr>
          <a:xfrm>
            <a:off x="4622760" y="3114720"/>
            <a:ext cx="27734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Resident Artist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Lisa Servatiu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STEM-inspired art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classes in October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4629240" y="4967280"/>
            <a:ext cx="277488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rt in the Classroom*(AIT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Monthly art classes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beginning in December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taught by volunte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659720" y="6415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Candara"/>
              </a:rPr>
              <a:t>* PTA-fu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ontent Placeholder 2"/>
          <p:cNvSpPr/>
          <p:nvPr/>
        </p:nvSpPr>
        <p:spPr>
          <a:xfrm>
            <a:off x="422280" y="1390680"/>
            <a:ext cx="80629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OLE’s Art Program Obj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o educate students about the basic art concepts of line, shap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exture, color and art appreci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o bring these concepts to life through creative projects, classro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discussion and individual expre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pres3.jpg"/>
          <p:cNvPicPr/>
          <p:nvPr/>
        </p:nvPicPr>
        <p:blipFill>
          <a:blip r:embed="rId1"/>
          <a:stretch/>
        </p:blipFill>
        <p:spPr>
          <a:xfrm>
            <a:off x="1566720" y="3946680"/>
            <a:ext cx="3264120" cy="2552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63" name="Picture 5" descr="pres6.jpg"/>
          <p:cNvPicPr/>
          <p:nvPr/>
        </p:nvPicPr>
        <p:blipFill>
          <a:blip r:embed="rId2"/>
          <a:stretch/>
        </p:blipFill>
        <p:spPr>
          <a:xfrm>
            <a:off x="4281480" y="3268800"/>
            <a:ext cx="3324240" cy="2307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ontent Placeholder 2"/>
          <p:cNvSpPr/>
          <p:nvPr/>
        </p:nvSpPr>
        <p:spPr>
          <a:xfrm>
            <a:off x="422280" y="1270080"/>
            <a:ext cx="8062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OLE’s Art Program Websi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5479920"/>
            <a:ext cx="9144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Screen shot 2016-09-14 at 8.33.37 PM.png"/>
          <p:cNvPicPr/>
          <p:nvPr/>
        </p:nvPicPr>
        <p:blipFill>
          <a:blip r:embed="rId1"/>
          <a:stretch/>
        </p:blipFill>
        <p:spPr>
          <a:xfrm>
            <a:off x="1155600" y="1879560"/>
            <a:ext cx="7151760" cy="4626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tent Placeholder 2"/>
          <p:cNvSpPr/>
          <p:nvPr/>
        </p:nvSpPr>
        <p:spPr>
          <a:xfrm>
            <a:off x="422280" y="1390680"/>
            <a:ext cx="806292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OLE’s Art Program Websi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Includes all AITC lesson plans and discussion tips for each concept (line, shape, texture, color) organized by grad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oncise project descriptions, helpful hints and special instructions, recommended books to support the lesson, power point presenta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rt examples exhibiting specific conce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rtist information/b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Grade Level Coordinator and Class Lead contact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rt Room calend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ndara"/>
                <a:ea typeface="Candara"/>
                <a:hlinkClick r:id="rId1"/>
              </a:rPr>
              <a:t>www.OtterLakeArtInTheClassroom.wordpress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ontent Placeholder 2"/>
          <p:cNvSpPr/>
          <p:nvPr/>
        </p:nvSpPr>
        <p:spPr>
          <a:xfrm>
            <a:off x="422280" y="1390680"/>
            <a:ext cx="80629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Art Adventure (AA) / Over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Program created by Minneapolis Institute of Ar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Discussion-only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in classroom to explore global art / art appreci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once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Lesson consists of three 45-min to 1 hr discussions -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Novemb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raining at MIA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: Two day and two evening dates available in Octo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Candara"/>
                <a:ea typeface="Candar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Megan Baum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Krista Dicken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Jill Macio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Ellen Maruy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Renée McCa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JJ Par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22280" y="1263600"/>
            <a:ext cx="8062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AA / Roles &amp;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484960" y="4884840"/>
            <a:ext cx="365904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2280" y="1913040"/>
          <a:ext cx="8272440" cy="3484440"/>
        </p:xfrm>
        <a:graphic>
          <a:graphicData uri="http://schemas.openxmlformats.org/drawingml/2006/table">
            <a:tbl>
              <a:tblPr/>
              <a:tblGrid>
                <a:gridCol w="2757600"/>
                <a:gridCol w="3743280"/>
                <a:gridCol w="1771560"/>
              </a:tblGrid>
              <a:tr h="68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ndara"/>
                          <a:ea typeface="Candara"/>
                        </a:rPr>
                        <a:t>RO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IBI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IT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98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A Committ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Liaison between OLE an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Minneapolis Institute of A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Schedule classes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Schedule training for volunte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Collect/drop off MIA prop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6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A Volunte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(Picture Pers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ttend MIA training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Review program bookl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Lead 30 to 45-min discussion with stud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1 hour, 3 tim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Nov 2015 ON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72" name="TextBox 6"/>
          <p:cNvSpPr/>
          <p:nvPr/>
        </p:nvSpPr>
        <p:spPr>
          <a:xfrm>
            <a:off x="360360" y="5645160"/>
            <a:ext cx="8881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Coordinate with teachers’ and volunteers’ availabilit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 Suggested and EXTREMELY helpful, but not manda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ontent Placeholder 2"/>
          <p:cNvSpPr/>
          <p:nvPr/>
        </p:nvSpPr>
        <p:spPr>
          <a:xfrm>
            <a:off x="422280" y="1390680"/>
            <a:ext cx="80629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Art in the Classroom (AITC) / Over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Monthly lessons focus on a single concept (line, shape, color or texture / clay) and include a project with hands-on art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an be take place in the classroom or the Art Room (based on room availabili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pres1.jpg"/>
          <p:cNvPicPr/>
          <p:nvPr/>
        </p:nvPicPr>
        <p:blipFill>
          <a:blip r:embed="rId1"/>
          <a:stretch/>
        </p:blipFill>
        <p:spPr>
          <a:xfrm>
            <a:off x="1852560" y="3693960"/>
            <a:ext cx="2652840" cy="309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res2.jpg"/>
          <p:cNvPicPr/>
          <p:nvPr/>
        </p:nvPicPr>
        <p:blipFill>
          <a:blip r:embed="rId2"/>
          <a:stretch/>
        </p:blipFill>
        <p:spPr>
          <a:xfrm>
            <a:off x="4122720" y="3214800"/>
            <a:ext cx="2852640" cy="2089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484960" y="4884840"/>
            <a:ext cx="365904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422280" y="1263600"/>
            <a:ext cx="8062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AITC / Roles &amp;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22280" y="1913040"/>
          <a:ext cx="8272440" cy="2625480"/>
        </p:xfrm>
        <a:graphic>
          <a:graphicData uri="http://schemas.openxmlformats.org/drawingml/2006/table">
            <a:tbl>
              <a:tblPr/>
              <a:tblGrid>
                <a:gridCol w="2757600"/>
                <a:gridCol w="3743280"/>
                <a:gridCol w="1771560"/>
              </a:tblGrid>
              <a:tr h="72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ndara"/>
                          <a:ea typeface="Candara"/>
                        </a:rPr>
                        <a:t>RO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IBI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IT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90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ITC Grade Level Coordin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Contact for grade-specifi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questions and concer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lan art projec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Create lesson pla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Order suppl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rovide art samp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ssist Classroom Leads as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  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necessa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4 to 5 hou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er 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 txBox="1"/>
          <p:nvPr/>
        </p:nvSpPr>
        <p:spPr>
          <a:xfrm>
            <a:off x="212760" y="4771800"/>
            <a:ext cx="8680320" cy="17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andara"/>
                <a:ea typeface="Candara"/>
              </a:rPr>
              <a:t>2015-16 </a:t>
            </a:r>
            <a:r>
              <a:rPr b="1" i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ITC Grade Level Coordinators:</a:t>
            </a:r>
            <a:endParaRPr b="0" lang="en-US" sz="2000" spc="-1" strike="noStrike">
              <a:solidFill>
                <a:srgbClr val="595959"/>
              </a:solidFill>
              <a:latin typeface="Trebuchet MS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Kindergarten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Erica Johnson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Grade 3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/ Ellen Maruyama</a:t>
            </a:r>
            <a:endParaRPr b="0" i="1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Grade 1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/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Sara McMahon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Grade 4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/ Heather Smythe</a:t>
            </a:r>
            <a:endParaRPr b="0" i="1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Grade 2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/ Renée McCabe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Grade 5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/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Michelle Selb-Sack </a:t>
            </a:r>
            <a:endParaRPr b="0" i="1" lang="en-US" sz="1800" spc="-1" strike="noStrike">
              <a:solidFill>
                <a:srgbClr val="5959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6:17:50Z</dcterms:created>
  <dc:creator>Katrina Hase</dc:creator>
  <dc:description/>
  <cp:keywords/>
  <dc:language>en-US</dc:language>
  <cp:lastModifiedBy>Renee McCabe</cp:lastModifiedBy>
  <cp:lastPrinted>2015-09-15T20:06:40Z</cp:lastPrinted>
  <dcterms:modified xsi:type="dcterms:W3CDTF">2016-09-20T21:53:44Z</dcterms:modified>
  <cp:revision>90</cp:revision>
  <dc:subject/>
  <dc:title>PowerPoint Presentation</dc:title>
</cp:coreProperties>
</file>