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23D-D24C-4F6D-8684-1D6D99C7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2900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4BB0-657D-4F64-9E76-1C7AD724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29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29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4547-08F5-4639-A7CD-36BBBC42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222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222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29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29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29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A29-8CB0-4B97-BE9B-86261B85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22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0FE-F722-4AFD-9958-DC4C9F3D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7F6-E6D9-44DD-B822-0A7AF755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4015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222640"/>
            <a:ext cx="4015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AB1-DE14-4D27-B466-6DCC7668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25B8-61B0-4CE1-A0EA-2E8939BF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476000"/>
            <a:ext cx="82296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7A3-67FB-4B95-9494-DE6F1C10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22640"/>
            <a:ext cx="4015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29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BC6E-3A28-4653-889C-4D2CD1B7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4015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29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9DA6-81E5-4F6B-9B38-4C3E0592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2900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7E58-3804-4786-B06D-CD8ED352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7600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Click to edit the title text format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22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2" marL="1143000" indent="-22860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3" marL="1600200" indent="-228600"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4" marL="2057400" indent="-228600">
              <a:spcBef>
                <a:spcPts val="64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B9355-1B7A-4B5B-8ED4-F4337E8A7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490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Georgia"/>
              </a:rPr>
              <a:t>Alexander Calder Mobiles </a:t>
            </a:r>
            <a:br>
              <a:rPr sz="3200"/>
            </a:br>
            <a:r>
              <a:rPr b="0" i="1" lang="en-US" sz="3200" spc="-1" strike="noStrike">
                <a:solidFill>
                  <a:srgbClr val="800000"/>
                </a:solidFill>
                <a:latin typeface="Georgia"/>
              </a:rPr>
              <a:t>and Organic Shapes</a:t>
            </a:r>
            <a:endParaRPr b="0" i="1" lang="en-US" sz="32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5682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Verdana"/>
              </a:rPr>
              <a:t>Sample text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Verdana"/>
              </a:rPr>
              <a:t>This is some more sample text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1800" spc="-1" strike="noStrike">
                <a:solidFill>
                  <a:srgbClr val="595959"/>
                </a:solidFill>
                <a:latin typeface="Verdana"/>
              </a:rPr>
              <a:t>Here’s third level text</a:t>
            </a:r>
            <a:endParaRPr b="0" i="1" lang="en-US" sz="1800" spc="-1" strike="noStrike">
              <a:solidFill>
                <a:srgbClr val="595959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Verdana"/>
              </a:rPr>
              <a:t>And some fourth level text</a:t>
            </a:r>
            <a:endParaRPr b="0" lang="en-US" sz="1800" spc="-1" strike="noStrike">
              <a:solidFill>
                <a:srgbClr val="5959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6:17:50Z</dcterms:created>
  <dc:creator>Katrina Hase</dc:creator>
  <dc:description/>
  <dc:language>en-US</dc:language>
  <cp:lastModifiedBy>Katrina Hase</cp:lastModifiedBy>
  <dcterms:modified xsi:type="dcterms:W3CDTF">2011-11-17T15:47:47Z</dcterms:modified>
  <cp:revision>4</cp:revision>
  <dc:subject/>
  <dc:title>PowerPoint Presentation</dc:title>
</cp:coreProperties>
</file>