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3B1-0B82-4D7D-B591-34266121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2900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8A0-C0CB-4C7D-9180-9873EACB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29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29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DED-E915-461E-B8FA-BCE50C3D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222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222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29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29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29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2BAD-94FE-4B65-A4BC-166FF0CC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22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6978-6C41-40D7-AD06-4EAA452F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935-1ACD-46EF-8B58-CF316087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4015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222640"/>
            <a:ext cx="4015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3D5-41D0-4161-8110-FB7089B5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067E-0FBF-40B9-AFAC-925AE184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476000"/>
            <a:ext cx="82296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AA43-BB08-46DB-A0D6-FDC6123B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22640"/>
            <a:ext cx="4015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29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907-97F1-4074-A730-166F1F3D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4015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29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FBB-40B0-46BF-8831-2CD8FE7E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2900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2995-E312-42AA-B3E5-93515AB2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7600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Click to edit the title text format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22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2" marL="1143000" indent="-22860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3" marL="1600200" indent="-228600"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4" marL="2057400" indent="-228600">
              <a:spcBef>
                <a:spcPts val="64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9309E-AB16-465E-BE78-678CAAF78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490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Georgia"/>
              </a:rPr>
              <a:t>Alexander Calder Mobiles </a:t>
            </a:r>
            <a:br>
              <a:rPr sz="3200"/>
            </a:br>
            <a:r>
              <a:rPr b="0" i="1" lang="en-US" sz="3200" spc="-1" strike="noStrike">
                <a:solidFill>
                  <a:srgbClr val="800000"/>
                </a:solidFill>
                <a:latin typeface="Georgia"/>
              </a:rPr>
              <a:t>and Organic Shapes</a:t>
            </a:r>
            <a:endParaRPr b="0" i="1" lang="en-US" sz="32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5682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Verdana"/>
              </a:rPr>
              <a:t>Sample text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This is some more sample text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1800" spc="-1" strike="noStrike">
                <a:solidFill>
                  <a:srgbClr val="595959"/>
                </a:solidFill>
                <a:latin typeface="Verdana"/>
              </a:rPr>
              <a:t>Here’s third level text</a:t>
            </a:r>
            <a:endParaRPr b="0" i="1" lang="en-US" sz="1800" spc="-1" strike="noStrike">
              <a:solidFill>
                <a:srgbClr val="595959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Verdana"/>
              </a:rPr>
              <a:t>And some fourth level text</a:t>
            </a:r>
            <a:endParaRPr b="0" lang="en-US" sz="1800" spc="-1" strike="noStrike">
              <a:solidFill>
                <a:srgbClr val="5959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6:17:50Z</dcterms:created>
  <dc:creator>Katrina Hase</dc:creator>
  <dc:description/>
  <dc:language>en-US</dc:language>
  <cp:lastModifiedBy>Katrina Hase</cp:lastModifiedBy>
  <dcterms:modified xsi:type="dcterms:W3CDTF">2011-11-17T15:47:47Z</dcterms:modified>
  <cp:revision>4</cp:revision>
  <dc:subject/>
  <dc:title>PowerPoint Presentation</dc:title>
</cp:coreProperties>
</file>