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2A9-E598-41B1-AF64-3B77B19F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97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371-05CA-492F-9591-AD28CB00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5DC-CBB9-4370-AD33-8D0D0E89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934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97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C64-DD51-4E4B-86EC-0423BE24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3D5-33B8-4BD6-BD6A-649AAF1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8D2-31A5-4D3C-8FE0-3C52DB34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EAC-3A23-4F97-A7A4-23E24810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20F-055B-4411-887B-B023EF7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4748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1CF-C6E4-4260-A02F-B1EE38E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945-F331-4422-8C5A-394FFFD6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97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3A7-D6E9-43C4-9BB0-5FC8D19E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934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97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F99-87E5-420B-BB9C-D891D58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EC337-2323-448A-B4FA-E09D35AA5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8997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Verdana"/>
              </a:rPr>
              <a:t>Contour: the outline of a shape or form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Verdana"/>
              </a:rPr>
              <a:t>19</a:t>
            </a:r>
            <a:r>
              <a:rPr b="1" lang="en-US" sz="1600" spc="-1" strike="noStrike" baseline="30000">
                <a:solidFill>
                  <a:srgbClr val="59595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595959"/>
                </a:solidFill>
                <a:latin typeface="Verdana"/>
              </a:rPr>
              <a:t> Century Drawing by Kasushika Hokusai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43" name="Picture 6" descr="Picture 3.png"/>
          <p:cNvPicPr/>
          <p:nvPr/>
        </p:nvPicPr>
        <p:blipFill>
          <a:blip r:embed="rId1"/>
          <a:stretch/>
        </p:blipFill>
        <p:spPr>
          <a:xfrm>
            <a:off x="676440" y="2787480"/>
            <a:ext cx="7791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Examples of contour lines: Calder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82560" y="2344680"/>
            <a:ext cx="361944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862520" y="2255760"/>
            <a:ext cx="33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One of the first things we draw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Our brains are “programmed” to see edges and lines: http://www.youtube.com/watch?v=4nwpU7GFYe8&amp;feature=related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89036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ontour lines can be outside or inside an object and help define the shape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48" name="Picture 3" descr="cansexample.jpg"/>
          <p:cNvPicPr/>
          <p:nvPr/>
        </p:nvPicPr>
        <p:blipFill>
          <a:blip r:embed="rId1"/>
          <a:stretch/>
        </p:blipFill>
        <p:spPr>
          <a:xfrm>
            <a:off x="1806480" y="2840040"/>
            <a:ext cx="55310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Help an object look more realistic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1" name="Picture 3" descr="stilllife.jpg"/>
          <p:cNvPicPr/>
          <p:nvPr/>
        </p:nvPicPr>
        <p:blipFill>
          <a:blip r:embed="rId1"/>
          <a:stretch/>
        </p:blipFill>
        <p:spPr>
          <a:xfrm>
            <a:off x="1852560" y="2479680"/>
            <a:ext cx="56628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Drawing with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First trace the outside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4" name="Picture 3" descr="outside of hand.jpg"/>
          <p:cNvPicPr/>
          <p:nvPr/>
        </p:nvPicPr>
        <p:blipFill>
          <a:blip r:embed="rId1"/>
          <a:stretch/>
        </p:blipFill>
        <p:spPr>
          <a:xfrm>
            <a:off x="2917800" y="2743200"/>
            <a:ext cx="3184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Drawing with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en add the inside lines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57" name="Picture 3" descr="added lines.jpg"/>
          <p:cNvPicPr/>
          <p:nvPr/>
        </p:nvPicPr>
        <p:blipFill>
          <a:blip r:embed="rId1"/>
          <a:stretch/>
        </p:blipFill>
        <p:spPr>
          <a:xfrm>
            <a:off x="2946240" y="2700360"/>
            <a:ext cx="3586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ontour lines show depth.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Cartographers (map drawers) use contour lines to show elevation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60" name="Picture 3" descr="maps.jpg"/>
          <p:cNvPicPr/>
          <p:nvPr/>
        </p:nvPicPr>
        <p:blipFill>
          <a:blip r:embed="rId1"/>
          <a:stretch/>
        </p:blipFill>
        <p:spPr>
          <a:xfrm>
            <a:off x="2238480" y="3038400"/>
            <a:ext cx="437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Blind contour drawing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782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A technique sometimes used by artists that gets interesting and unexpected results.</a:t>
            </a:r>
            <a:endParaRPr b="0" lang="en-US" sz="26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63" name="Picture 3" descr="blind contour line.jpg"/>
          <p:cNvPicPr/>
          <p:nvPr/>
        </p:nvPicPr>
        <p:blipFill>
          <a:blip r:embed="rId1"/>
          <a:stretch/>
        </p:blipFill>
        <p:spPr>
          <a:xfrm>
            <a:off x="457200" y="2984400"/>
            <a:ext cx="4800600" cy="347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creen-shot-2011-09-27-at-10-18-19-pm.png"/>
          <p:cNvPicPr/>
          <p:nvPr/>
        </p:nvPicPr>
        <p:blipFill>
          <a:blip r:embed="rId2"/>
          <a:stretch/>
        </p:blipFill>
        <p:spPr>
          <a:xfrm>
            <a:off x="5794200" y="3143160"/>
            <a:ext cx="21243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474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Examples of contour lines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pic>
        <p:nvPicPr>
          <p:cNvPr id="66" name="Content Placeholder 3" descr="Picture 2.png"/>
          <p:cNvPicPr/>
          <p:nvPr/>
        </p:nvPicPr>
        <p:blipFill>
          <a:blip r:embed="rId1"/>
          <a:srcRect l="0" t="11059" r="0" b="11059"/>
          <a:stretch/>
        </p:blipFill>
        <p:spPr>
          <a:xfrm>
            <a:off x="457200" y="214632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57200" y="6178680"/>
            <a:ext cx="51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rich Kley, 19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cp:keywords/>
  <dc:language>en-US</dc:language>
  <cp:lastModifiedBy>Katrina Hase</cp:lastModifiedBy>
  <dcterms:modified xsi:type="dcterms:W3CDTF">2011-10-27T18:23:22Z</dcterms:modified>
  <cp:revision>7</cp:revision>
  <dc:subject/>
  <dc:title>PowerPoint Presentation</dc:title>
</cp:coreProperties>
</file>