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844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move the slid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83AD9-341B-45D8-B939-BD18D469F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8F717-7262-4CCC-9E9B-987E137E0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99E-B8D7-4A08-B85F-93FC4305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776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199760"/>
            <a:ext cx="776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321-852C-4969-9E59-B2064E26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00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E19-4022-4304-A070-C423B3D8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320" y="209340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240" y="209340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19976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320" y="419976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240" y="4199760"/>
            <a:ext cx="25012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9B7-2AD4-48B7-A6BA-BDA9D0E9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209340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C2B-D57F-425D-87B0-BD111BF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1F1-3912-420E-B92A-5C007CC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063-430C-405A-B409-7DC93A96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18B-9E01-4FE2-9427-937EBD63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1347480"/>
            <a:ext cx="776916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545-EBA7-4396-AC45-4B1786D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847-63F4-44A4-BF51-B9E86C9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000" y="419976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D53-5095-48C5-8901-104C3443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1341360"/>
            <a:ext cx="7769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000" y="2093400"/>
            <a:ext cx="3791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199760"/>
            <a:ext cx="776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EA1-035A-4C7F-9606-077196C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209340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228600">
              <a:spcBef>
                <a:spcPts val="649"/>
              </a:spcBef>
              <a:buClr>
                <a:srgbClr val="595959"/>
              </a:buClr>
              <a:buFont typeface="Lucida Grande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3" marL="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4" marL="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5" marL="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6" marL="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BE056-262A-46D7-B4DE-E76FA346F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njmac@comcast.net" TargetMode="External"/><Relationship Id="rId2" Type="http://schemas.openxmlformats.org/officeDocument/2006/relationships/hyperlink" Target="mailto:snjmac@comcast.ne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tterLakeArtInTheClassroom.wordpres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840" y="1496520"/>
            <a:ext cx="86565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Welcome to Art in the Classroom 2011/2012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15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</a:rPr>
              <a:t>Program Objective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Educate the students at Otter Lake about the basic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rt concepts of line, shape, texture and color.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Bring these concepts to life through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lass discussion about past and present artists who emphasize these concepts in their work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reative projects that demonstrate these concepts, yet allow 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for individual, student expression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AITC Website – Lesson Pag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43120" y="2093760"/>
            <a:ext cx="5356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1120" y="1347480"/>
            <a:ext cx="80769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Coordinators: How to Set Up a Class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3440" y="2128320"/>
            <a:ext cx="82342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aster Calendar - on the wall, online in the future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tact your child</a:t>
            </a:r>
            <a:r>
              <a:rPr b="0" lang="ja-JP" sz="26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s teacher to determine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 date and time for class each month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(e.g., second Tuesday @ 10:00)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Document this on Master Calendar, allowing for set-up and clean-up time.  Note location of class.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lass may be held in the Art Room or Classroom depending on project and availability of Art Room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he Lesson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978200"/>
            <a:ext cx="85579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Lesson plans and supporting documents will be posted on the AITC website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Volunteer Cupboard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ombination to lock found in kiln room, next to light switch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Hard copies of lessons and supporting documents 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found in file folders, organized by teacher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All project materials in Volunteer Cupboard unless otherwise noted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Project sample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Please leave Volunteer Cupboard as you find it, put materials away, etc.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If you find that supplies are running low, please get in touch with your Grade Level Contact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eaching a Lesso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06676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649"/>
              </a:spcBef>
              <a:spcAft>
                <a:spcPts val="400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Have FUN!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400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Read your materials prior to class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spcAft>
                <a:spcPts val="400"/>
              </a:spcAft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Docs posted on website now – hard copies of lessons will be available on or about the 1</a:t>
            </a:r>
            <a:r>
              <a:rPr b="0" lang="en-US" sz="26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 of each month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595959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Discuss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oncept – use supporting information provided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Be Creative!!  Use props – e.g., books, posters, wipe board, 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art from home, music, etc.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Your Challenge:  Be mindful of discussion time vs. project time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Clay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7080" y="2128680"/>
            <a:ext cx="818028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Each grade will have the opportunity to create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 clay project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Schedule is already determined, note project calendar – 1</a:t>
            </a:r>
            <a:r>
              <a:rPr b="0" lang="en-US" sz="26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 Grade’s project occurs in October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When scheduling your clay project, two dates 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are required: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800000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Calibri"/>
              </a:rPr>
              <a:t>Date to creat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800000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Date to glaz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Clay Process Overview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4" name="Flowchart: Alternate Process 3"/>
          <p:cNvSpPr/>
          <p:nvPr/>
        </p:nvSpPr>
        <p:spPr>
          <a:xfrm>
            <a:off x="341280" y="2279520"/>
            <a:ext cx="1987560" cy="854280"/>
          </a:xfrm>
          <a:prstGeom prst="flowChartAlternateProcess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Cre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xplosion 2 6"/>
          <p:cNvSpPr/>
          <p:nvPr/>
        </p:nvSpPr>
        <p:spPr>
          <a:xfrm>
            <a:off x="3760920" y="1978200"/>
            <a:ext cx="2620800" cy="1444320"/>
          </a:xfrm>
          <a:prstGeom prst="irregularSeal2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r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xplosion 2 9"/>
          <p:cNvSpPr/>
          <p:nvPr/>
        </p:nvSpPr>
        <p:spPr>
          <a:xfrm>
            <a:off x="2852640" y="4102200"/>
            <a:ext cx="2621160" cy="1444680"/>
          </a:xfrm>
          <a:prstGeom prst="irregularSeal2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r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Arrow 11"/>
          <p:cNvSpPr/>
          <p:nvPr/>
        </p:nvSpPr>
        <p:spPr>
          <a:xfrm>
            <a:off x="2620800" y="2523960"/>
            <a:ext cx="811440" cy="365400"/>
          </a:xfrm>
          <a:prstGeom prst="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Bent Arrow 13"/>
          <p:cNvSpPr/>
          <p:nvPr/>
        </p:nvSpPr>
        <p:spPr>
          <a:xfrm rot="5400000">
            <a:off x="6835320" y="2668320"/>
            <a:ext cx="898560" cy="609480"/>
          </a:xfrm>
          <a:custGeom>
            <a:avLst/>
            <a:gdLst/>
            <a:ahLst/>
            <a:rect l="l" t="t" r="r" b="b"/>
            <a:pathLst>
              <a:path w="898525" h="609600">
                <a:moveTo>
                  <a:pt x="0" y="609600"/>
                </a:moveTo>
                <a:lnTo>
                  <a:pt x="0" y="342900"/>
                </a:lnTo>
                <a:lnTo>
                  <a:pt x="0" y="342900"/>
                </a:lnTo>
                <a:arcTo wR="266700" hR="266700" stAng="10800000" swAng="5400000"/>
                <a:lnTo>
                  <a:pt x="746125" y="76200"/>
                </a:lnTo>
                <a:lnTo>
                  <a:pt x="746125" y="0"/>
                </a:lnTo>
                <a:lnTo>
                  <a:pt x="898525" y="152400"/>
                </a:lnTo>
                <a:lnTo>
                  <a:pt x="746125" y="304800"/>
                </a:lnTo>
                <a:lnTo>
                  <a:pt x="746125" y="228600"/>
                </a:lnTo>
                <a:lnTo>
                  <a:pt x="266700" y="228600"/>
                </a:lnTo>
                <a:lnTo>
                  <a:pt x="266700" y="228600"/>
                </a:lnTo>
                <a:arcTo wR="114300" hR="114300" stAng="-5400000" swAng="-5400000"/>
                <a:lnTo>
                  <a:pt x="152400" y="6096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gular Pentagon 14"/>
          <p:cNvSpPr/>
          <p:nvPr/>
        </p:nvSpPr>
        <p:spPr>
          <a:xfrm>
            <a:off x="6381720" y="3828960"/>
            <a:ext cx="2068560" cy="1717920"/>
          </a:xfrm>
          <a:prstGeom prst="pentag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laz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eft Arrow 15"/>
          <p:cNvSpPr/>
          <p:nvPr/>
        </p:nvSpPr>
        <p:spPr>
          <a:xfrm>
            <a:off x="5473800" y="4694400"/>
            <a:ext cx="744480" cy="328320"/>
          </a:xfrm>
          <a:prstGeom prst="lef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eft Arrow 16"/>
          <p:cNvSpPr/>
          <p:nvPr/>
        </p:nvSpPr>
        <p:spPr>
          <a:xfrm>
            <a:off x="1878120" y="4694400"/>
            <a:ext cx="742680" cy="328320"/>
          </a:xfrm>
          <a:prstGeom prst="leftArrow">
            <a:avLst>
              <a:gd name="adj1" fmla="val 50000"/>
              <a:gd name="adj2" fmla="val 5002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171360" y="4400640"/>
            <a:ext cx="153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Calibri"/>
              </a:rPr>
              <a:t>Distribute Projects to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2328840" y="29494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7-10 D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ry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7589880" y="248760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ojects C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one d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he Kil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1120" y="2093400"/>
            <a:ext cx="801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558ed5"/>
                </a:solidFill>
                <a:latin typeface="Calibri"/>
              </a:rPr>
              <a:t>DON’T BE INTIMIDATED! 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Training will be provided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Schedule a 20-minute training session for your grade with Sarah Solberg or Aimee Kueppers PRIOR to your first firing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Training must be taken for everyone using the kiln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Miscellaneou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0760" y="215532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</a:rPr>
              <a:t>Communication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s key to our success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ordinators, please get in touch with your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Grade Level Contact if there are any questions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or comments regarding a project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Always looking for new project ideas </a:t>
            </a:r>
            <a:br>
              <a:rPr sz="2600"/>
            </a:b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or comments on how we can improve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7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Contact Pag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093760"/>
          <a:ext cx="8229600" cy="3606840"/>
        </p:xfrm>
        <a:graphic>
          <a:graphicData uri="http://schemas.openxmlformats.org/drawingml/2006/table">
            <a:tbl>
              <a:tblPr/>
              <a:tblGrid>
                <a:gridCol w="1395360"/>
                <a:gridCol w="2036880"/>
                <a:gridCol w="3170160"/>
                <a:gridCol w="162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Lev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ac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dergar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 Plet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p1023@msn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1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 McMana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snjmac@comcast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2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 Plet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1023@msn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1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nnon Tjer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jernlund@msn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429-7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rina 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erlakeart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-226-5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 McMana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snjmac@comcast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762-2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h Solbe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bergs@usfamily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407-2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mee Kuep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meebethschaefer@yahoo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-429-2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130284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The Program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7840" y="2014560"/>
            <a:ext cx="868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Annual Budget of $2,000 – approx. $3.40/student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Volunteer driven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Team for 2012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Katrina Has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Aimee Kuepper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Janet McManamon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Barb Pletsch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arah Solberg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44880" indent="-3394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hannon Tjernlund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678600" indent="-4525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Team is tasked with research &amp; design of new projects </a:t>
            </a:r>
            <a:br>
              <a:rPr sz="2600"/>
            </a:b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and will serve as grade-level contacts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Organizatio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682720" y="2093760"/>
            <a:ext cx="3614760" cy="9306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de Level 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own Arrow 4"/>
          <p:cNvSpPr/>
          <p:nvPr/>
        </p:nvSpPr>
        <p:spPr>
          <a:xfrm>
            <a:off x="4309920" y="3219480"/>
            <a:ext cx="182880" cy="279360"/>
          </a:xfrm>
          <a:prstGeom prst="downArrow">
            <a:avLst>
              <a:gd name="adj1" fmla="val 50000"/>
              <a:gd name="adj2" fmla="val 4990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097080" y="3657600"/>
            <a:ext cx="2791080" cy="113364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2682720" y="5505480"/>
            <a:ext cx="3937320" cy="81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 Volunte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own Arrow 8"/>
          <p:cNvSpPr/>
          <p:nvPr/>
        </p:nvSpPr>
        <p:spPr>
          <a:xfrm>
            <a:off x="4309920" y="5035680"/>
            <a:ext cx="182880" cy="304560"/>
          </a:xfrm>
          <a:prstGeom prst="downArrow">
            <a:avLst>
              <a:gd name="adj1" fmla="val 50000"/>
              <a:gd name="adj2" fmla="val 49876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New for 2011 / 2012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2840" y="2093400"/>
            <a:ext cx="876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marL="2214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Calibri"/>
              </a:rPr>
              <a:t>Grade Level Contacts Are: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Barb – Kindergarten and 2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nd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Janet  - 1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and 5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hannon – 3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rd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Katrina – 4</a:t>
            </a:r>
            <a:r>
              <a:rPr b="0" i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 Grade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19680" indent="-33264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arah and Aimee - Clay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68200" y="2532240"/>
            <a:ext cx="2610000" cy="9270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de Level 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ight Arrow 6"/>
          <p:cNvSpPr/>
          <p:nvPr/>
        </p:nvSpPr>
        <p:spPr>
          <a:xfrm>
            <a:off x="3116160" y="2776680"/>
            <a:ext cx="432000" cy="21888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780000" y="2282760"/>
            <a:ext cx="5119560" cy="142416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Project Research &amp; Planning / Supply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Room / Project Set Up &amp; Tear D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Sample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Contact for questions, concerns for specific gr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Organization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82480" y="21333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</a:rPr>
              <a:t>Classroom Coordinators</a:t>
            </a:r>
            <a:r>
              <a:rPr b="0" lang="en-US" sz="2600" spc="-1" strike="noStrike">
                <a:solidFill>
                  <a:srgbClr val="2da8ae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chedule art classes for the year based on your teacher</a:t>
            </a:r>
            <a:r>
              <a:rPr b="0" i="1" lang="ja-JP" sz="20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s availability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Review Lesson Plan online and samples in the Art Room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Room set-up 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Lead project discussion and assist student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Primary contact for Grade Level Contacts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257480" indent="-343080">
              <a:spcBef>
                <a:spcPts val="499"/>
              </a:spcBef>
              <a:spcAft>
                <a:spcPts val="1199"/>
              </a:spcAft>
              <a:buClr>
                <a:srgbClr val="595959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lean-up</a:t>
            </a:r>
            <a:endParaRPr b="0" i="1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22860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Time Commitment: 2-3 hours/month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Organization 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0760" y="2093400"/>
            <a:ext cx="776916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da8ae"/>
                </a:solidFill>
                <a:latin typeface="Calibri"/>
                <a:ea typeface="Calibri"/>
              </a:rPr>
              <a:t>Classroom Volunteers:</a:t>
            </a:r>
            <a:endParaRPr b="0" lang="en-US" sz="26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Assist Coordinator with room set-up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Review Lesson Plan online and samples in the Art Room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Assist students with projects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Assist with room clean-up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  <a:ea typeface="Calibri"/>
              </a:rPr>
              <a:t>Cover for Coordinator if not available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 algn="ctr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  <a:ea typeface="Calibri"/>
              </a:rPr>
              <a:t>Time Commitment: 2 hrs/month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Art in the Classroom Website!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8200" y="2093400"/>
            <a:ext cx="8607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a8ae"/>
              </a:solidFill>
              <a:latin typeface="Calibri"/>
            </a:endParaRPr>
          </a:p>
          <a:p>
            <a:pPr marL="2286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OtterLakeArtInTheClassroom.wordpress.com</a:t>
            </a:r>
            <a:br>
              <a:rPr sz="2000"/>
            </a:br>
            <a:endParaRPr b="0" lang="en-US" sz="2000" spc="-1" strike="noStrike">
              <a:solidFill>
                <a:srgbClr val="2da8ae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Organized by grad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High level project descriptions, helpful hints and special instructions, recommended books to support the lesson, etc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Lesson plan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oncept information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rtist information/b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Examples of art exhibiting concept taught that month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2286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a8a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1347480"/>
            <a:ext cx="77691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eorgia"/>
              </a:rPr>
              <a:t>AITC Website – Home Pag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882800" y="2093760"/>
            <a:ext cx="5437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000" y="1347480"/>
            <a:ext cx="87901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orgia"/>
              </a:rPr>
              <a:t>AITC Website – Grade Level Page </a:t>
            </a:r>
            <a:endParaRPr b="0" i="1" lang="en-US" sz="28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962000" y="2093760"/>
            <a:ext cx="50277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dc:language>en-US</dc:language>
  <cp:lastModifiedBy>Steven McManamon</cp:lastModifiedBy>
  <dcterms:modified xsi:type="dcterms:W3CDTF">2011-09-18T23:10:08Z</dcterms:modified>
  <cp:revision>56</cp:revision>
  <dc:subject/>
  <dc:title>PowerPoint Presentation</dc:title>
</cp:coreProperties>
</file>