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1CE1A1-2E4F-43CD-9E1D-3EBC344BA1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4d2d0"/>
              </a:solidFill>
              <a:latin typeface="Lucida Gran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C10B06-B1DF-472B-867A-66D74B115D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4d2d0"/>
              </a:solidFill>
              <a:latin typeface="Lucida Grand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00BC66-003D-4F51-8854-54D1629F9E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4d2d0"/>
              </a:solidFill>
              <a:latin typeface="Lucida Gran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FBD984-CD6F-4BE3-B55A-78EA51E2EE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B24AD8-E930-4097-9A50-8C1E805A47A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4d2d0"/>
              </a:solidFill>
              <a:latin typeface="Lucida Grande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5FE060-9CCB-4D78-815B-926CD580984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4d2d0"/>
              </a:solidFill>
              <a:latin typeface="Lucida Grande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4C3FA0-BCFD-4BE8-B2B0-632780E0B74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4d2d0"/>
              </a:solidFill>
              <a:latin typeface="Lucida Grande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9A0CD5-153C-44D3-B899-DA5A23796B6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4d2d0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19CBCB-9261-4439-B105-E82C0665FD4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198360"/>
            <a:ext cx="8229600" cy="649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763B1E-3912-44FC-8949-95E2DAD201C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4d2d0"/>
              </a:solidFill>
              <a:latin typeface="Lucida Grande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CF90DD-38D1-490F-B5FA-9A474094686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4d2d0"/>
              </a:solidFill>
              <a:latin typeface="Lucida Grande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1B0AD2-57C0-403B-BD73-B84FDA804A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4d2d0"/>
              </a:solidFill>
              <a:latin typeface="Lucida Gran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1F7BEB-7B67-4FE7-8FF3-FE519BFE4B2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4d2d0"/>
              </a:solidFill>
              <a:latin typeface="Lucida Grand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E8AA2A-51E7-44AA-9E7F-098E6B7633A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4d2d0"/>
              </a:solidFill>
              <a:latin typeface="Lucida Grand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7307A5-9208-49B7-ACB1-4812073B422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4d2d0"/>
              </a:solidFill>
              <a:latin typeface="Lucida Grand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137256-07D9-4A54-9227-1381A13B37F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4d2d0"/>
              </a:solidFill>
              <a:latin typeface="Lucida Grand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354828-66F2-41C9-8BC2-BA3DCE0A651B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4d2d0"/>
              </a:solidFill>
              <a:latin typeface="Lucida Grande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4d2d0"/>
              </a:solidFill>
              <a:latin typeface="Lucida Grand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4d2d0"/>
              </a:solidFill>
              <a:latin typeface="Lucida Gran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4d2d0"/>
              </a:solidFill>
              <a:latin typeface="Lucida Grande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4d2d0"/>
              </a:solidFill>
              <a:latin typeface="Lucida Grand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0F38B3-DC07-4B65-8BE5-DC2E415214F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198360"/>
            <a:ext cx="8229600" cy="649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4d2d0"/>
              </a:solidFill>
              <a:latin typeface="Lucida Gran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4d2d0"/>
              </a:solidFill>
              <a:latin typeface="Lucida Grande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4d2d0"/>
              </a:solidFill>
              <a:latin typeface="Lucida Grand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4d2d0"/>
              </a:solidFill>
              <a:latin typeface="Lucida Grande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4d2d0"/>
              </a:solidFill>
              <a:latin typeface="Lucida Gran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4d2d0"/>
              </a:solidFill>
              <a:latin typeface="Lucida Gran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4d2d0"/>
              </a:solidFill>
              <a:latin typeface="Lucida Gran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4d2d0"/>
              </a:solidFill>
              <a:latin typeface="Lucida Grand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4d2d0"/>
              </a:solidFill>
              <a:latin typeface="Lucida Grand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C654CD-CFAE-47E5-8BDE-C890CB4137FF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4d2d0"/>
              </a:solidFill>
              <a:latin typeface="Lucida Gran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4d2d0"/>
              </a:solidFill>
              <a:latin typeface="Lucida Grande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198360"/>
            <a:ext cx="8229600" cy="649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4d2d0"/>
              </a:solidFill>
              <a:latin typeface="Lucida Grande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4d2d0"/>
              </a:solidFill>
              <a:latin typeface="Lucida Grande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4d2d0"/>
              </a:solidFill>
              <a:latin typeface="Lucida Grande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4d2d0"/>
              </a:solidFill>
              <a:latin typeface="Lucida Grande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4d2d0"/>
              </a:solidFill>
              <a:latin typeface="Lucida Grande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4d2d0"/>
              </a:solidFill>
              <a:latin typeface="Lucida Grande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4d2d0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FB1575-0F6A-4F79-98EE-F51C987B5F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198360"/>
            <a:ext cx="8229600" cy="649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4420DD-4606-4B17-88AA-479EA0D910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4d2d0"/>
              </a:solidFill>
              <a:latin typeface="Lucida Grand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A524A9-9C8C-4B1A-BD06-9B6627F656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4d2d0"/>
              </a:solidFill>
              <a:latin typeface="Lucida Grand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DB0F1E-225D-4659-829C-8A690676BA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4d2d0"/>
              </a:solidFill>
              <a:latin typeface="Lucida Gran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46EFE2-5065-47AB-AFBE-1C48485757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6363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4d2d0"/>
                </a:solidFill>
                <a:latin typeface="Lucida Grande"/>
              </a:rPr>
              <a:t>Click to edit the title text format</a:t>
            </a:r>
            <a:endParaRPr b="0" lang="en-US" sz="3200" spc="-1" strike="noStrike">
              <a:solidFill>
                <a:srgbClr val="d4d2d0"/>
              </a:solidFill>
              <a:latin typeface="Lucida Gran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601"/>
              </a:spcBef>
              <a:buClr>
                <a:srgbClr val="ffffff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Grande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  <a:p>
            <a:pPr lvl="1" marL="528480" indent="-285480">
              <a:spcBef>
                <a:spcPts val="601"/>
              </a:spcBef>
              <a:buClr>
                <a:srgbClr val="ffffff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Grande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  <a:p>
            <a:pPr lvl="2" marL="928800" indent="-228600">
              <a:spcBef>
                <a:spcPts val="601"/>
              </a:spcBef>
              <a:buClr>
                <a:srgbClr val="ffffff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Grande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  <a:p>
            <a:pPr lvl="3" marL="1386000" indent="-228600">
              <a:spcBef>
                <a:spcPts val="601"/>
              </a:spcBef>
              <a:buClr>
                <a:srgbClr val="ffffff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Grande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  <a:p>
            <a:pPr lvl="4" marL="1843200" indent="-228600">
              <a:spcBef>
                <a:spcPts val="601"/>
              </a:spcBef>
              <a:buClr>
                <a:srgbClr val="ffffff"/>
              </a:buClr>
              <a:buFont typeface="Lucida Gran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Grande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  <a:p>
            <a:pPr lvl="5" marL="1843200" indent="-228600">
              <a:spcBef>
                <a:spcPts val="601"/>
              </a:spcBef>
              <a:buClr>
                <a:srgbClr val="ffffff"/>
              </a:buClr>
              <a:buFont typeface="Lucida Gran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Grande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  <a:p>
            <a:pPr lvl="6" marL="1843200" indent="-228600">
              <a:spcBef>
                <a:spcPts val="601"/>
              </a:spcBef>
              <a:buClr>
                <a:srgbClr val="ffffff"/>
              </a:buClr>
              <a:buFont typeface="Lucida Gran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Grande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472240" y="6559200"/>
            <a:ext cx="30636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4d2d0"/>
                </a:solidFill>
                <a:latin typeface="Lucida Grande"/>
                <a:ea typeface="Lucida Gran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4FB39-9390-4206-B46F-5BB302E5E023}" type="slidenum">
              <a:rPr b="0" lang="en-US" sz="1200" spc="-1" strike="noStrike">
                <a:solidFill>
                  <a:srgbClr val="d4d2d0"/>
                </a:solidFill>
                <a:latin typeface="Lucida Grande"/>
                <a:ea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6363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4d2d0"/>
                </a:solidFill>
                <a:latin typeface="Lucida Grande"/>
              </a:rPr>
              <a:t>Click to edit the title text format</a:t>
            </a:r>
            <a:endParaRPr b="0" lang="en-US" sz="3200" spc="-1" strike="noStrike">
              <a:solidFill>
                <a:srgbClr val="d4d2d0"/>
              </a:solidFill>
              <a:latin typeface="Lucida Grande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601"/>
              </a:spcBef>
              <a:buClr>
                <a:srgbClr val="ffffff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Grande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  <a:p>
            <a:pPr lvl="1" marL="528480" indent="-285480">
              <a:spcBef>
                <a:spcPts val="601"/>
              </a:spcBef>
              <a:buClr>
                <a:srgbClr val="ffffff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Grande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  <a:p>
            <a:pPr lvl="2" marL="928800" indent="-228600">
              <a:spcBef>
                <a:spcPts val="601"/>
              </a:spcBef>
              <a:buClr>
                <a:srgbClr val="ffffff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Grande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  <a:p>
            <a:pPr lvl="3" marL="1386000" indent="-228600">
              <a:spcBef>
                <a:spcPts val="601"/>
              </a:spcBef>
              <a:buClr>
                <a:srgbClr val="ffffff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Grande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  <a:p>
            <a:pPr lvl="4" marL="1843200" indent="-228600">
              <a:spcBef>
                <a:spcPts val="601"/>
              </a:spcBef>
              <a:buClr>
                <a:srgbClr val="ffffff"/>
              </a:buClr>
              <a:buFont typeface="Lucida Gran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Grande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  <a:p>
            <a:pPr lvl="5" marL="1843200" indent="-228600">
              <a:spcBef>
                <a:spcPts val="601"/>
              </a:spcBef>
              <a:buClr>
                <a:srgbClr val="ffffff"/>
              </a:buClr>
              <a:buFont typeface="Lucida Gran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Grande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  <a:p>
            <a:pPr lvl="6" marL="1843200" indent="-228600">
              <a:spcBef>
                <a:spcPts val="601"/>
              </a:spcBef>
              <a:buClr>
                <a:srgbClr val="ffffff"/>
              </a:buClr>
              <a:buFont typeface="Lucida Gran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Grande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Num" idx="2"/>
          </p:nvPr>
        </p:nvSpPr>
        <p:spPr>
          <a:xfrm>
            <a:off x="8472240" y="6559200"/>
            <a:ext cx="30636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4d2d0"/>
                </a:solidFill>
                <a:latin typeface="Lucida Grande"/>
                <a:ea typeface="Lucida Gran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C8547-CD70-4A6E-A261-73050F33B0C2}" type="slidenum">
              <a:rPr b="0" lang="en-US" sz="1200" spc="-1" strike="noStrike">
                <a:solidFill>
                  <a:srgbClr val="d4d2d0"/>
                </a:solidFill>
                <a:latin typeface="Lucida Grande"/>
                <a:ea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6363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4d2d0"/>
                </a:solidFill>
                <a:latin typeface="Lucida Grande"/>
              </a:rPr>
              <a:t>Click to edit the title text format</a:t>
            </a:r>
            <a:endParaRPr b="0" lang="en-US" sz="3200" spc="-1" strike="noStrike">
              <a:solidFill>
                <a:srgbClr val="d4d2d0"/>
              </a:solidFill>
              <a:latin typeface="Lucida Grande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601"/>
              </a:spcBef>
              <a:buClr>
                <a:srgbClr val="ffffff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Grande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  <a:p>
            <a:pPr lvl="1" marL="528480" indent="-285480">
              <a:spcBef>
                <a:spcPts val="601"/>
              </a:spcBef>
              <a:buClr>
                <a:srgbClr val="ffffff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Grande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  <a:p>
            <a:pPr lvl="2" marL="928800" indent="-228600">
              <a:spcBef>
                <a:spcPts val="601"/>
              </a:spcBef>
              <a:buClr>
                <a:srgbClr val="ffffff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Grande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  <a:p>
            <a:pPr lvl="3" marL="1386000" indent="-228600">
              <a:spcBef>
                <a:spcPts val="601"/>
              </a:spcBef>
              <a:buClr>
                <a:srgbClr val="ffffff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Grande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  <a:p>
            <a:pPr lvl="4" marL="1843200" indent="-228600">
              <a:spcBef>
                <a:spcPts val="601"/>
              </a:spcBef>
              <a:buClr>
                <a:srgbClr val="ffffff"/>
              </a:buClr>
              <a:buFont typeface="Lucida Gran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Grande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  <a:p>
            <a:pPr lvl="5" marL="1843200" indent="-228600">
              <a:spcBef>
                <a:spcPts val="601"/>
              </a:spcBef>
              <a:buClr>
                <a:srgbClr val="ffffff"/>
              </a:buClr>
              <a:buFont typeface="Lucida Gran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Grande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  <a:p>
            <a:pPr lvl="6" marL="1843200" indent="-228600">
              <a:spcBef>
                <a:spcPts val="601"/>
              </a:spcBef>
              <a:buClr>
                <a:srgbClr val="ffffff"/>
              </a:buClr>
              <a:buFont typeface="Lucida Gran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Grande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6363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4d2d0"/>
                </a:solidFill>
                <a:latin typeface="Lucida Grande"/>
              </a:rPr>
              <a:t>Click to edit the title text format</a:t>
            </a:r>
            <a:endParaRPr b="0" lang="en-US" sz="3200" spc="-1" strike="noStrike">
              <a:solidFill>
                <a:srgbClr val="d4d2d0"/>
              </a:solidFill>
              <a:latin typeface="Lucida Grande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601"/>
              </a:spcBef>
              <a:buClr>
                <a:srgbClr val="ffffff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Grande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  <a:p>
            <a:pPr lvl="1" marL="528480" indent="-285480">
              <a:spcBef>
                <a:spcPts val="601"/>
              </a:spcBef>
              <a:buClr>
                <a:srgbClr val="ffffff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Grande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  <a:p>
            <a:pPr lvl="2" marL="928800" indent="-228600">
              <a:spcBef>
                <a:spcPts val="601"/>
              </a:spcBef>
              <a:buClr>
                <a:srgbClr val="ffffff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Grande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  <a:p>
            <a:pPr lvl="3" marL="1386000" indent="-228600">
              <a:spcBef>
                <a:spcPts val="601"/>
              </a:spcBef>
              <a:buClr>
                <a:srgbClr val="ffffff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Grande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  <a:p>
            <a:pPr lvl="4" marL="1843200" indent="-228600">
              <a:spcBef>
                <a:spcPts val="601"/>
              </a:spcBef>
              <a:buClr>
                <a:srgbClr val="ffffff"/>
              </a:buClr>
              <a:buFont typeface="Lucida Gran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Grande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  <a:p>
            <a:pPr lvl="5" marL="1843200" indent="-228600">
              <a:spcBef>
                <a:spcPts val="601"/>
              </a:spcBef>
              <a:buClr>
                <a:srgbClr val="ffffff"/>
              </a:buClr>
              <a:buFont typeface="Lucida Gran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Grande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  <a:p>
            <a:pPr lvl="6" marL="1843200" indent="-228600">
              <a:spcBef>
                <a:spcPts val="601"/>
              </a:spcBef>
              <a:buClr>
                <a:srgbClr val="ffffff"/>
              </a:buClr>
              <a:buFont typeface="Lucida Gran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Grande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6363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176040" y="187200"/>
            <a:ext cx="8763120" cy="6213600"/>
          </a:xfrm>
          <a:prstGeom prst="rect">
            <a:avLst/>
          </a:prstGeom>
          <a:noFill/>
          <a:ln cap="rnd" w="9360">
            <a:solidFill>
              <a:srgbClr val="6c6c6c"/>
            </a:solidFill>
            <a:custDash>
              <a:ds d="499000" sp="201000"/>
            </a:custDash>
            <a:miter/>
          </a:ln>
          <a:effectLst>
            <a:outerShdw dist="1260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2147400" y="5562360"/>
            <a:ext cx="6386760" cy="68580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marL="9036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Lucida Grande"/>
              </a:rPr>
              <a:t>Properties of Color</a:t>
            </a:r>
            <a:endParaRPr b="0" lang="en-US" sz="28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title"/>
          </p:nvPr>
        </p:nvSpPr>
        <p:spPr>
          <a:xfrm>
            <a:off x="228600" y="4647960"/>
            <a:ext cx="8298000" cy="106668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ctr">
            <a:noAutofit/>
          </a:bodyPr>
          <a:p>
            <a:pPr marL="9036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Grande"/>
              </a:rPr>
              <a:t>Art in the classroom</a:t>
            </a:r>
            <a:endParaRPr b="0" lang="en-US" sz="3200" spc="-1" strike="noStrike">
              <a:solidFill>
                <a:srgbClr val="d4d2d0"/>
              </a:solidFill>
              <a:latin typeface="Lucida Grande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572000" y="1066680"/>
            <a:ext cx="3733920" cy="3554640"/>
          </a:xfrm>
          <a:prstGeom prst="rect">
            <a:avLst/>
          </a:prstGeom>
          <a:ln w="28440">
            <a:solidFill>
              <a:srgbClr val="000000"/>
            </a:solidFill>
            <a:miter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6363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ctr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4d2d0"/>
                </a:solidFill>
                <a:latin typeface="Lucida Grande"/>
              </a:rPr>
              <a:t>Examples of our project today</a:t>
            </a:r>
            <a:endParaRPr b="0" lang="en-US" sz="3200" spc="-1" strike="noStrike">
              <a:solidFill>
                <a:srgbClr val="d4d2d0"/>
              </a:solidFill>
              <a:latin typeface="Lucida Grande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-12600" y="0"/>
            <a:ext cx="9169200" cy="685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42FDC5-A63C-44F2-85A0-9FAB33E5D498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6363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ctr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4d2d0"/>
                </a:solidFill>
                <a:latin typeface="Lucida Grande"/>
              </a:rPr>
              <a:t>Steps to our project</a:t>
            </a:r>
            <a:endParaRPr b="0" lang="en-US" sz="3200" spc="-1" strike="noStrike">
              <a:solidFill>
                <a:srgbClr val="d4d2d0"/>
              </a:solidFill>
              <a:latin typeface="Lucida Grande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t">
            <a:normAutofit fontScale="99000"/>
          </a:bodyPr>
          <a:p>
            <a:pPr marL="378720" indent="-3394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Grande"/>
              </a:rPr>
              <a:t>Practice making a city land scrape on a white piece of paper.</a:t>
            </a: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  <a:p>
            <a:pPr marL="378720" indent="-3394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Grande"/>
              </a:rPr>
              <a:t>Use a ruler to draw a horizontal line towards the bottom.</a:t>
            </a: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  <a:p>
            <a:pPr marL="378720" indent="-3394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Grande"/>
              </a:rPr>
              <a:t>Draw ONLY 3-4 buildings of different sizes.  Add windows if you want.</a:t>
            </a: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  <a:p>
            <a:pPr marL="378720" indent="-3394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Grande"/>
              </a:rPr>
              <a:t>Copy your design onto the canvas board with pencil and a ruler.</a:t>
            </a: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  <a:p>
            <a:pPr marL="378720" indent="-3394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Grande"/>
              </a:rPr>
              <a:t>Use a black crayon to trace over the pencil lines pressing hard.</a:t>
            </a: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  <a:p>
            <a:pPr marL="378720" indent="-3394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Grande"/>
              </a:rPr>
              <a:t>Using our paint, tint and shade your color.</a:t>
            </a: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  <a:p>
            <a:pPr marL="378720" indent="-3394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Grande"/>
              </a:rPr>
              <a:t>Paint your canvas, trying to add color to all white places.</a:t>
            </a: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C07EDF-93FB-4E88-9817-88C582861913}" type="slidenum">
              <a:t>1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6363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380880" y="762120"/>
            <a:ext cx="8382240" cy="5333760"/>
          </a:xfrm>
          <a:prstGeom prst="rect">
            <a:avLst/>
          </a:prstGeom>
          <a:noFill/>
          <a:ln w="0">
            <a:noFill/>
          </a:ln>
        </p:spPr>
        <p:txBody>
          <a:bodyPr lIns="0" rIns="-3600" tIns="0" bIns="0" anchor="t">
            <a:normAutofit/>
          </a:bodyPr>
          <a:p>
            <a:pPr marL="77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Lucida Grande"/>
              </a:rPr>
              <a:t>Hue</a:t>
            </a:r>
            <a:r>
              <a:rPr b="1" lang="en-US" sz="1800" spc="-1" strike="noStrike">
                <a:solidFill>
                  <a:srgbClr val="ffffff"/>
                </a:solidFill>
                <a:latin typeface="Lucida Grande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Lucida Grande"/>
              </a:rPr>
              <a:t>is the term for the pure spectrum colors which appear in a rainbow or the Primary Color Wheel. Hues are commonly referred to by the "color names” – yellow, orange, red, violet (or purple), blue, and green.</a:t>
            </a:r>
            <a:endParaRPr b="0" lang="en-US" sz="1800" spc="-1" strike="noStrike">
              <a:solidFill>
                <a:srgbClr val="ffffff"/>
              </a:solidFill>
              <a:latin typeface="Lucida Grande"/>
            </a:endParaRPr>
          </a:p>
          <a:p>
            <a:pPr marL="77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Lucida Grande"/>
            </a:endParaRPr>
          </a:p>
          <a:p>
            <a:pPr marL="77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Lucida Grande"/>
            </a:endParaRPr>
          </a:p>
          <a:p>
            <a:pPr marL="77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Lucida Grande"/>
            </a:endParaRPr>
          </a:p>
          <a:p>
            <a:pPr marL="77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 u="sng">
                <a:solidFill>
                  <a:srgbClr val="d9d9d9"/>
                </a:solidFill>
                <a:uFillTx/>
                <a:latin typeface="Lucida Grande"/>
              </a:rPr>
              <a:t>The Primary Color Wheel </a:t>
            </a:r>
            <a:endParaRPr b="0" lang="en-US" sz="1900" spc="-1" strike="noStrike">
              <a:solidFill>
                <a:srgbClr val="ffffff"/>
              </a:solidFill>
              <a:latin typeface="Lucida Grande"/>
            </a:endParaRPr>
          </a:p>
          <a:p>
            <a:pPr marL="77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Grande"/>
              </a:rPr>
              <a:t>is made up of twelve colors which </a:t>
            </a:r>
            <a:endParaRPr b="0" lang="en-US" sz="1800" spc="-1" strike="noStrike">
              <a:solidFill>
                <a:srgbClr val="ffffff"/>
              </a:solidFill>
              <a:latin typeface="Lucida Grande"/>
            </a:endParaRPr>
          </a:p>
          <a:p>
            <a:pPr marL="77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Grande"/>
              </a:rPr>
              <a:t>progress around the wheel in </a:t>
            </a:r>
            <a:endParaRPr b="0" lang="en-US" sz="1800" spc="-1" strike="noStrike">
              <a:solidFill>
                <a:srgbClr val="ffffff"/>
              </a:solidFill>
              <a:latin typeface="Lucida Grande"/>
            </a:endParaRPr>
          </a:p>
          <a:p>
            <a:pPr marL="77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Grande"/>
              </a:rPr>
              <a:t>gradual increments.</a:t>
            </a:r>
            <a:endParaRPr b="0" lang="en-US" sz="1800" spc="-1" strike="noStrike">
              <a:solidFill>
                <a:srgbClr val="ffffff"/>
              </a:solidFill>
              <a:latin typeface="Lucida Grande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4952880" y="2057400"/>
            <a:ext cx="3581640" cy="3581280"/>
          </a:xfrm>
          <a:prstGeom prst="rect">
            <a:avLst/>
          </a:prstGeom>
          <a:ln w="28440">
            <a:solidFill>
              <a:srgbClr val="000000"/>
            </a:solidFill>
            <a:miter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</p:pic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6363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304920" y="838080"/>
            <a:ext cx="6006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9000" tIns="12600" bIns="12600" anchor="t">
            <a:noAutofit/>
          </a:bodyPr>
          <a:p>
            <a:pPr marL="1440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d9d9d9"/>
                </a:solidFill>
                <a:uFillTx/>
                <a:latin typeface="Lucida Grande"/>
                <a:ea typeface="Lucida Grande"/>
              </a:rPr>
              <a:t>Primary Colors </a:t>
            </a:r>
            <a:r>
              <a:rPr b="0" lang="en-US" sz="1800" spc="-1" strike="noStrike">
                <a:solidFill>
                  <a:srgbClr val="ffffff"/>
                </a:solidFill>
                <a:latin typeface="Lucida Grande"/>
                <a:ea typeface="Lucida Grande"/>
              </a:rPr>
              <a:t>(A): Yellow, Blue and Red</a:t>
            </a:r>
            <a:endParaRPr b="0" lang="en-US" sz="1800" spc="-1" strike="noStrike">
              <a:solidFill>
                <a:srgbClr val="ffffff"/>
              </a:solidFill>
              <a:latin typeface="Lucida Grande"/>
            </a:endParaRPr>
          </a:p>
          <a:p>
            <a:pPr marL="14400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Lucida Grande"/>
            </a:endParaRPr>
          </a:p>
          <a:p>
            <a:pPr marL="14400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Grande"/>
                <a:ea typeface="Lucida Grande"/>
              </a:rPr>
              <a:t>These three Primary Colors are </a:t>
            </a:r>
            <a:endParaRPr b="0" lang="en-US" sz="1800" spc="-1" strike="noStrike">
              <a:solidFill>
                <a:srgbClr val="ffffff"/>
              </a:solidFill>
              <a:latin typeface="Lucida Grande"/>
            </a:endParaRPr>
          </a:p>
          <a:p>
            <a:pPr marL="14400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Grande"/>
                <a:ea typeface="Lucida Grande"/>
              </a:rPr>
              <a:t>blended together to produce other </a:t>
            </a:r>
            <a:endParaRPr b="0" lang="en-US" sz="1800" spc="-1" strike="noStrike">
              <a:solidFill>
                <a:srgbClr val="ffffff"/>
              </a:solidFill>
              <a:latin typeface="Lucida Grande"/>
            </a:endParaRPr>
          </a:p>
          <a:p>
            <a:pPr marL="14400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Grande"/>
                <a:ea typeface="Lucida Grande"/>
              </a:rPr>
              <a:t>colors called </a:t>
            </a:r>
            <a:r>
              <a:rPr b="1" lang="en-US" sz="2000" spc="-1" strike="noStrike" u="sng">
                <a:solidFill>
                  <a:srgbClr val="d9d9d9"/>
                </a:solidFill>
                <a:uFillTx/>
                <a:latin typeface="Lucida Grande"/>
                <a:ea typeface="Lucida Grande"/>
              </a:rPr>
              <a:t>Secondary Colors </a:t>
            </a:r>
            <a:r>
              <a:rPr b="0" lang="en-US" sz="1800" spc="-1" strike="noStrike">
                <a:solidFill>
                  <a:srgbClr val="ffffff"/>
                </a:solidFill>
                <a:latin typeface="Lucida Grande"/>
                <a:ea typeface="Lucida Grande"/>
              </a:rPr>
              <a:t>(B):</a:t>
            </a:r>
            <a:endParaRPr b="0" lang="en-US" sz="1800" spc="-1" strike="noStrike">
              <a:solidFill>
                <a:srgbClr val="ffffff"/>
              </a:solidFill>
              <a:latin typeface="Lucida Grande"/>
            </a:endParaRPr>
          </a:p>
          <a:p>
            <a:pPr marL="14400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Grande"/>
                <a:ea typeface="Lucida Grande"/>
              </a:rPr>
              <a:t>•</a:t>
            </a:r>
            <a:r>
              <a:rPr b="0" lang="en-US" sz="1800" spc="-1" strike="noStrike">
                <a:solidFill>
                  <a:srgbClr val="ffffff"/>
                </a:solidFill>
                <a:latin typeface="Lucida Grande"/>
                <a:ea typeface="Lucida Grande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Lucida Grande"/>
                <a:ea typeface="Lucida Grande"/>
              </a:rPr>
              <a:t>Yellow + Red = Orange</a:t>
            </a:r>
            <a:endParaRPr b="0" lang="en-US" sz="1800" spc="-1" strike="noStrike">
              <a:solidFill>
                <a:srgbClr val="ffffff"/>
              </a:solidFill>
              <a:latin typeface="Lucida Grande"/>
            </a:endParaRPr>
          </a:p>
          <a:p>
            <a:pPr marL="14400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Grande"/>
                <a:ea typeface="Lucida Grande"/>
              </a:rPr>
              <a:t>•</a:t>
            </a:r>
            <a:r>
              <a:rPr b="0" lang="en-US" sz="1800" spc="-1" strike="noStrike">
                <a:solidFill>
                  <a:srgbClr val="ffffff"/>
                </a:solidFill>
                <a:latin typeface="Lucida Grande"/>
                <a:ea typeface="Lucida Grande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Lucida Grande"/>
                <a:ea typeface="Lucida Grande"/>
              </a:rPr>
              <a:t>Red + Blue = Violet (or Purple)</a:t>
            </a:r>
            <a:endParaRPr b="0" lang="en-US" sz="1800" spc="-1" strike="noStrike">
              <a:solidFill>
                <a:srgbClr val="ffffff"/>
              </a:solidFill>
              <a:latin typeface="Lucida Grande"/>
            </a:endParaRPr>
          </a:p>
          <a:p>
            <a:pPr marL="14400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Grande"/>
                <a:ea typeface="Lucida Grande"/>
              </a:rPr>
              <a:t>•</a:t>
            </a:r>
            <a:r>
              <a:rPr b="0" lang="en-US" sz="1800" spc="-1" strike="noStrike">
                <a:solidFill>
                  <a:srgbClr val="ffffff"/>
                </a:solidFill>
                <a:latin typeface="Lucida Grande"/>
                <a:ea typeface="Lucida Grande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Lucida Grande"/>
                <a:ea typeface="Lucida Grande"/>
              </a:rPr>
              <a:t>Blue + Yellow = Green</a:t>
            </a:r>
            <a:endParaRPr b="0" lang="en-US" sz="1800" spc="-1" strike="noStrike">
              <a:solidFill>
                <a:srgbClr val="ffffff"/>
              </a:solidFill>
              <a:latin typeface="Lucida Grande"/>
            </a:endParaRPr>
          </a:p>
          <a:p>
            <a:pPr marL="14400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Lucida Grande"/>
            </a:endParaRPr>
          </a:p>
          <a:p>
            <a:pPr marL="14400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Grande"/>
                <a:ea typeface="Lucida Grande"/>
              </a:rPr>
              <a:t>When you combine a Primary Color </a:t>
            </a:r>
            <a:endParaRPr b="0" lang="en-US" sz="1800" spc="-1" strike="noStrike">
              <a:solidFill>
                <a:srgbClr val="ffffff"/>
              </a:solidFill>
              <a:latin typeface="Lucida Grande"/>
            </a:endParaRPr>
          </a:p>
          <a:p>
            <a:pPr marL="14400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Grande"/>
                <a:ea typeface="Lucida Grande"/>
              </a:rPr>
              <a:t>with a Secondary Color, you produce </a:t>
            </a:r>
            <a:endParaRPr b="0" lang="en-US" sz="1800" spc="-1" strike="noStrike">
              <a:solidFill>
                <a:srgbClr val="ffffff"/>
              </a:solidFill>
              <a:latin typeface="Lucida Grande"/>
            </a:endParaRPr>
          </a:p>
          <a:p>
            <a:pPr marL="14400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Grande"/>
                <a:ea typeface="Lucida Grande"/>
              </a:rPr>
              <a:t>a </a:t>
            </a:r>
            <a:r>
              <a:rPr b="1" lang="en-US" sz="2000" spc="-1" strike="noStrike" u="sng">
                <a:solidFill>
                  <a:srgbClr val="d9d9d9"/>
                </a:solidFill>
                <a:uFillTx/>
                <a:latin typeface="Lucida Grande"/>
                <a:ea typeface="Lucida Grande"/>
              </a:rPr>
              <a:t>Tertiary Color</a:t>
            </a:r>
            <a:r>
              <a:rPr b="1" lang="en-US" sz="2000" spc="-1" strike="noStrike">
                <a:solidFill>
                  <a:srgbClr val="d9d9d9"/>
                </a:solidFill>
                <a:latin typeface="Lucida Grande"/>
                <a:ea typeface="Lucida Grande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Lucida Grande"/>
                <a:ea typeface="Lucida Grande"/>
              </a:rPr>
              <a:t>(C). Some of these </a:t>
            </a:r>
            <a:endParaRPr b="0" lang="en-US" sz="1800" spc="-1" strike="noStrike">
              <a:solidFill>
                <a:srgbClr val="ffffff"/>
              </a:solidFill>
              <a:latin typeface="Lucida Grande"/>
            </a:endParaRPr>
          </a:p>
          <a:p>
            <a:pPr marL="14400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Grande"/>
                <a:ea typeface="Lucida Grande"/>
              </a:rPr>
              <a:t>include: </a:t>
            </a:r>
            <a:endParaRPr b="0" lang="en-US" sz="1800" spc="-1" strike="noStrike">
              <a:solidFill>
                <a:srgbClr val="ffffff"/>
              </a:solidFill>
              <a:latin typeface="Lucida Grande"/>
            </a:endParaRPr>
          </a:p>
          <a:p>
            <a:pPr marL="14400">
              <a:lnSpc>
                <a:spcPct val="14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Grande"/>
                <a:ea typeface="Lucida Grande"/>
              </a:rPr>
              <a:t>•</a:t>
            </a:r>
            <a:r>
              <a:rPr b="0" lang="en-US" sz="1800" spc="-1" strike="noStrike">
                <a:solidFill>
                  <a:srgbClr val="ffffff"/>
                </a:solidFill>
                <a:latin typeface="Lucida Grande"/>
                <a:ea typeface="Lucida Grande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Lucida Grande"/>
                <a:ea typeface="Lucida Grande"/>
              </a:rPr>
              <a:t>Red + Orange = Red Orange </a:t>
            </a:r>
            <a:endParaRPr b="0" lang="en-US" sz="1800" spc="-1" strike="noStrike">
              <a:solidFill>
                <a:srgbClr val="ffffff"/>
              </a:solidFill>
              <a:latin typeface="Lucida Grande"/>
            </a:endParaRPr>
          </a:p>
          <a:p>
            <a:pPr marL="14400">
              <a:lnSpc>
                <a:spcPct val="14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Grande"/>
                <a:ea typeface="Lucida Grande"/>
              </a:rPr>
              <a:t>•</a:t>
            </a:r>
            <a:r>
              <a:rPr b="0" lang="en-US" sz="1800" spc="-1" strike="noStrike">
                <a:solidFill>
                  <a:srgbClr val="ffffff"/>
                </a:solidFill>
                <a:latin typeface="Lucida Grande"/>
                <a:ea typeface="Lucida Grande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Lucida Grande"/>
                <a:ea typeface="Lucida Grande"/>
              </a:rPr>
              <a:t>Yellow + Green = Yellow Green</a:t>
            </a:r>
            <a:endParaRPr b="0" lang="en-US" sz="1800" spc="-1" strike="noStrike">
              <a:solidFill>
                <a:srgbClr val="ffffff"/>
              </a:solidFill>
              <a:latin typeface="Lucida Grande"/>
            </a:endParaRPr>
          </a:p>
          <a:p>
            <a:pPr marL="14400">
              <a:lnSpc>
                <a:spcPct val="14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Grande"/>
                <a:ea typeface="Lucida Grande"/>
              </a:rPr>
              <a:t>•</a:t>
            </a:r>
            <a:r>
              <a:rPr b="0" lang="en-US" sz="1800" spc="-1" strike="noStrike">
                <a:solidFill>
                  <a:srgbClr val="ffffff"/>
                </a:solidFill>
                <a:latin typeface="Lucida Grande"/>
                <a:ea typeface="Lucida Grande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Lucida Grande"/>
                <a:ea typeface="Lucida Grande"/>
              </a:rPr>
              <a:t>Red + Violet (Purple) = Red Violet </a:t>
            </a:r>
            <a:endParaRPr b="0" lang="en-US" sz="1800" spc="-1" strike="noStrike">
              <a:solidFill>
                <a:srgbClr val="ffffff"/>
              </a:solidFill>
              <a:latin typeface="Lucida Grande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5257800" y="1828800"/>
            <a:ext cx="3581280" cy="3581280"/>
          </a:xfrm>
          <a:prstGeom prst="rect">
            <a:avLst/>
          </a:prstGeom>
          <a:ln w="28440">
            <a:solidFill>
              <a:srgbClr val="000000"/>
            </a:solidFill>
            <a:miter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</p:pic>
      <p:sp>
        <p:nvSpPr>
          <p:cNvPr id="162" name=""/>
          <p:cNvSpPr/>
          <p:nvPr/>
        </p:nvSpPr>
        <p:spPr>
          <a:xfrm>
            <a:off x="6858000" y="2133720"/>
            <a:ext cx="4446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63" name=""/>
          <p:cNvSpPr/>
          <p:nvPr/>
        </p:nvSpPr>
        <p:spPr>
          <a:xfrm>
            <a:off x="8001000" y="2743200"/>
            <a:ext cx="36828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64" name=""/>
          <p:cNvSpPr/>
          <p:nvPr/>
        </p:nvSpPr>
        <p:spPr>
          <a:xfrm>
            <a:off x="5715000" y="4114800"/>
            <a:ext cx="4446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65" name=""/>
          <p:cNvSpPr/>
          <p:nvPr/>
        </p:nvSpPr>
        <p:spPr>
          <a:xfrm>
            <a:off x="8001000" y="4114800"/>
            <a:ext cx="4446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66" name=""/>
          <p:cNvSpPr/>
          <p:nvPr/>
        </p:nvSpPr>
        <p:spPr>
          <a:xfrm>
            <a:off x="5791320" y="2819520"/>
            <a:ext cx="36828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67" name=""/>
          <p:cNvSpPr/>
          <p:nvPr/>
        </p:nvSpPr>
        <p:spPr>
          <a:xfrm>
            <a:off x="6934320" y="4724280"/>
            <a:ext cx="36828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68" name=""/>
          <p:cNvSpPr/>
          <p:nvPr/>
        </p:nvSpPr>
        <p:spPr>
          <a:xfrm>
            <a:off x="7543800" y="2286000"/>
            <a:ext cx="36828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69" name=""/>
          <p:cNvSpPr/>
          <p:nvPr/>
        </p:nvSpPr>
        <p:spPr>
          <a:xfrm>
            <a:off x="8153280" y="3429000"/>
            <a:ext cx="36828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70" name=""/>
          <p:cNvSpPr/>
          <p:nvPr/>
        </p:nvSpPr>
        <p:spPr>
          <a:xfrm>
            <a:off x="7543800" y="4572000"/>
            <a:ext cx="36828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71" name=""/>
          <p:cNvSpPr/>
          <p:nvPr/>
        </p:nvSpPr>
        <p:spPr>
          <a:xfrm>
            <a:off x="6248520" y="4572000"/>
            <a:ext cx="36828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72" name=""/>
          <p:cNvSpPr/>
          <p:nvPr/>
        </p:nvSpPr>
        <p:spPr>
          <a:xfrm>
            <a:off x="5562720" y="3429000"/>
            <a:ext cx="36828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73" name=""/>
          <p:cNvSpPr/>
          <p:nvPr/>
        </p:nvSpPr>
        <p:spPr>
          <a:xfrm>
            <a:off x="6248520" y="2362320"/>
            <a:ext cx="36828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74" name=""/>
          <p:cNvSpPr/>
          <p:nvPr/>
        </p:nvSpPr>
        <p:spPr>
          <a:xfrm>
            <a:off x="304920" y="228600"/>
            <a:ext cx="539748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Lucida Grande"/>
                <a:ea typeface="Lucida Grande"/>
              </a:rPr>
              <a:t>Primary Color Wheel</a:t>
            </a: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6363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533520" y="2209680"/>
            <a:ext cx="8001000" cy="1658880"/>
          </a:xfrm>
          <a:prstGeom prst="rect">
            <a:avLst/>
          </a:prstGeom>
          <a:ln w="28440">
            <a:solidFill>
              <a:srgbClr val="000000"/>
            </a:solidFill>
            <a:miter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</p:pic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380880" y="990360"/>
            <a:ext cx="8382240" cy="1447560"/>
          </a:xfrm>
          <a:prstGeom prst="rect">
            <a:avLst/>
          </a:prstGeom>
          <a:noFill/>
          <a:ln w="0">
            <a:noFill/>
          </a:ln>
        </p:spPr>
        <p:txBody>
          <a:bodyPr lIns="0" rIns="-3600" tIns="0" bIns="0" anchor="t">
            <a:normAutofit/>
          </a:bodyPr>
          <a:p>
            <a:pPr marL="77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Lucida Grande"/>
              </a:rPr>
              <a:t>Color Value</a:t>
            </a:r>
            <a:r>
              <a:rPr b="1" lang="en-US" sz="1800" spc="-1" strike="noStrike">
                <a:solidFill>
                  <a:srgbClr val="ffffff"/>
                </a:solidFill>
                <a:latin typeface="Lucida Grande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Lucida Grande"/>
              </a:rPr>
              <a:t>refers to the lightness or darkness of the hue.</a:t>
            </a:r>
            <a:endParaRPr b="0" lang="en-US" sz="1800" spc="-1" strike="noStrike">
              <a:solidFill>
                <a:srgbClr val="ffffff"/>
              </a:solidFill>
              <a:latin typeface="Lucida Grande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6363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380880" y="762120"/>
            <a:ext cx="8382240" cy="1676160"/>
          </a:xfrm>
          <a:prstGeom prst="rect">
            <a:avLst/>
          </a:prstGeom>
          <a:noFill/>
          <a:ln w="0">
            <a:noFill/>
          </a:ln>
        </p:spPr>
        <p:txBody>
          <a:bodyPr lIns="0" rIns="-3600" tIns="0" bIns="0" anchor="t">
            <a:normAutofit/>
          </a:bodyPr>
          <a:p>
            <a:pPr marL="77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d9d9d9"/>
                </a:solidFill>
                <a:uFillTx/>
                <a:latin typeface="Lucida Grande"/>
              </a:rPr>
              <a:t>Tint</a:t>
            </a:r>
            <a:r>
              <a:rPr b="1" lang="en-US" sz="3600" spc="-1" strike="noStrike">
                <a:solidFill>
                  <a:srgbClr val="d9d9d9"/>
                </a:solidFill>
                <a:latin typeface="Lucida Grande"/>
              </a:rPr>
              <a:t>:</a:t>
            </a:r>
            <a:r>
              <a:rPr b="1" lang="en-US" sz="2000" spc="-1" strike="noStrike">
                <a:solidFill>
                  <a:srgbClr val="d9d9d9"/>
                </a:solidFill>
                <a:latin typeface="Lucida Grande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Lucida Grande"/>
              </a:rPr>
              <a:t>  adding white to a hue/color. </a:t>
            </a:r>
            <a:endParaRPr b="0" lang="en-US" sz="1800" spc="-1" strike="noStrike">
              <a:solidFill>
                <a:srgbClr val="ffffff"/>
              </a:solidFill>
              <a:latin typeface="Lucida Grande"/>
            </a:endParaRPr>
          </a:p>
          <a:p>
            <a:pPr marL="77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Grande"/>
              </a:rPr>
              <a:t>A tint is lighter than the original hue. It’s sometimes called “pastel.”</a:t>
            </a:r>
            <a:endParaRPr b="0" lang="en-US" sz="1800" spc="-1" strike="noStrike">
              <a:solidFill>
                <a:srgbClr val="ffffff"/>
              </a:solidFill>
              <a:latin typeface="Lucida Grande"/>
            </a:endParaRPr>
          </a:p>
          <a:p>
            <a:pPr marL="77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Grande"/>
              </a:rPr>
              <a:t>*</a:t>
            </a:r>
            <a:r>
              <a:rPr b="0" lang="en-US" sz="1200" spc="-1" strike="noStrike">
                <a:solidFill>
                  <a:srgbClr val="ffffff"/>
                </a:solidFill>
                <a:latin typeface="Lucida Grande"/>
              </a:rPr>
              <a:t>make or show another example</a:t>
            </a:r>
            <a:endParaRPr b="0" lang="en-US" sz="1200" spc="-1" strike="noStrike">
              <a:solidFill>
                <a:srgbClr val="ffffff"/>
              </a:solidFill>
              <a:latin typeface="Lucida Grande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4800600" y="2209680"/>
            <a:ext cx="3581280" cy="3581640"/>
          </a:xfrm>
          <a:prstGeom prst="rect">
            <a:avLst/>
          </a:prstGeom>
          <a:ln w="28440">
            <a:solidFill>
              <a:srgbClr val="000000"/>
            </a:solidFill>
            <a:miter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</p:pic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685800" y="2209680"/>
            <a:ext cx="3581280" cy="3581640"/>
          </a:xfrm>
          <a:prstGeom prst="rect">
            <a:avLst/>
          </a:prstGeom>
          <a:ln w="28440">
            <a:solidFill>
              <a:srgbClr val="000000"/>
            </a:solidFill>
            <a:miter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</p:pic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6363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380880" y="760320"/>
            <a:ext cx="8445600" cy="11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9000" tIns="12600" bIns="12600" anchor="t">
            <a:noAutofit/>
          </a:bodyPr>
          <a:p>
            <a:pPr marL="14400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d9d9d9"/>
                </a:solidFill>
                <a:uFillTx/>
                <a:latin typeface="Lucida Grande"/>
                <a:ea typeface="Lucida Grande"/>
              </a:rPr>
              <a:t>Shade</a:t>
            </a:r>
            <a:r>
              <a:rPr b="1" lang="en-US" sz="3600" spc="-1" strike="noStrike">
                <a:solidFill>
                  <a:srgbClr val="d9d9d9"/>
                </a:solidFill>
                <a:latin typeface="Lucida Grande"/>
                <a:ea typeface="Lucida Grande"/>
              </a:rPr>
              <a:t>:</a:t>
            </a:r>
            <a:r>
              <a:rPr b="0" lang="en-US" sz="1800" spc="-1" strike="noStrike">
                <a:solidFill>
                  <a:srgbClr val="ffffff"/>
                </a:solidFill>
                <a:latin typeface="Lucida Grande"/>
                <a:ea typeface="Lucida Grande"/>
              </a:rPr>
              <a:t>  adding black to a hue/color.</a:t>
            </a:r>
            <a:endParaRPr b="0" lang="en-US" sz="1800" spc="-1" strike="noStrike">
              <a:solidFill>
                <a:srgbClr val="ffffff"/>
              </a:solidFill>
              <a:latin typeface="Lucida Grande"/>
            </a:endParaRPr>
          </a:p>
          <a:p>
            <a:pPr marL="14400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Grande"/>
                <a:ea typeface="Lucida Grande"/>
              </a:rPr>
              <a:t>A shade is darker than the original hue.</a:t>
            </a:r>
            <a:endParaRPr b="0" lang="en-US" sz="1800" spc="-1" strike="noStrike">
              <a:solidFill>
                <a:srgbClr val="ffffff"/>
              </a:solidFill>
              <a:latin typeface="Lucida Grande"/>
            </a:endParaRPr>
          </a:p>
          <a:p>
            <a:pPr marL="144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Grande"/>
                <a:ea typeface="Lucida Grande"/>
              </a:rPr>
              <a:t>*make or show another example</a:t>
            </a:r>
            <a:endParaRPr b="0" lang="en-US" sz="1200" spc="-1" strike="noStrike">
              <a:solidFill>
                <a:srgbClr val="ffffff"/>
              </a:solidFill>
              <a:latin typeface="Lucida Grande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4876920" y="2133720"/>
            <a:ext cx="3581280" cy="3581280"/>
          </a:xfrm>
          <a:prstGeom prst="rect">
            <a:avLst/>
          </a:prstGeom>
          <a:ln w="28440">
            <a:solidFill>
              <a:srgbClr val="000000"/>
            </a:solidFill>
            <a:miter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</p:pic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762120" y="2133720"/>
            <a:ext cx="3581280" cy="3581280"/>
          </a:xfrm>
          <a:prstGeom prst="rect">
            <a:avLst/>
          </a:prstGeom>
          <a:ln w="28440">
            <a:solidFill>
              <a:srgbClr val="000000"/>
            </a:solidFill>
            <a:miter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</p:pic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6363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ctr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4d2d0"/>
                </a:solidFill>
                <a:latin typeface="Lucida Grande"/>
              </a:rPr>
              <a:t>Monochromatic</a:t>
            </a:r>
            <a:r>
              <a:rPr b="0" lang="en-US" sz="3200" spc="-1" strike="noStrike">
                <a:solidFill>
                  <a:srgbClr val="d4d2d0"/>
                </a:solidFill>
                <a:latin typeface="Lucida Grande"/>
              </a:rPr>
              <a:t> Art</a:t>
            </a:r>
            <a:endParaRPr b="0" lang="en-US" sz="3200" spc="-1" strike="noStrike">
              <a:solidFill>
                <a:srgbClr val="d4d2d0"/>
              </a:solidFill>
              <a:latin typeface="Lucida Grande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30600" tIns="50760" bIns="50760" anchor="t">
            <a:normAutofit/>
          </a:bodyPr>
          <a:p>
            <a:pPr indent="0">
              <a:lnSpc>
                <a:spcPts val="2299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Lucida Grande"/>
            </a:endParaRPr>
          </a:p>
          <a:p>
            <a:pPr indent="0">
              <a:lnSpc>
                <a:spcPts val="2299"/>
              </a:lnSpc>
              <a:spcBef>
                <a:spcPts val="22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Verdana"/>
              </a:rPr>
              <a:t>This color scheme involves the use of only one hue.</a:t>
            </a: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  <a:p>
            <a:pPr indent="0">
              <a:lnSpc>
                <a:spcPts val="2299"/>
              </a:lnSpc>
              <a:spcBef>
                <a:spcPts val="22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Verdana"/>
              </a:rPr>
              <a:t>Uses a single color with different tints and shades to form a composition.</a:t>
            </a: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0340DA-BAC7-48EF-A6C5-815C64F90382}" type="slidenum">
              <a:t>7</a:t>
            </a:fld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6363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ctr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4d2d0"/>
                </a:solidFill>
                <a:latin typeface="Lucida Grande"/>
              </a:rPr>
              <a:t>Examples of our project today</a:t>
            </a:r>
            <a:endParaRPr b="0" lang="en-US" sz="3200" spc="-1" strike="noStrike">
              <a:solidFill>
                <a:srgbClr val="d4d2d0"/>
              </a:solidFill>
              <a:latin typeface="Lucida Gran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35040" y="1733400"/>
            <a:ext cx="7988400" cy="583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C1DF75-DDD7-4682-9147-864253DA4398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6363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ctr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4d2d0"/>
                </a:solidFill>
                <a:latin typeface="Lucida Grande"/>
              </a:rPr>
              <a:t>Examples of our project today</a:t>
            </a:r>
            <a:endParaRPr b="0" lang="en-US" sz="3200" spc="-1" strike="noStrike">
              <a:solidFill>
                <a:srgbClr val="d4d2d0"/>
              </a:solidFill>
              <a:latin typeface="Lucida Grand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-12600" y="0"/>
            <a:ext cx="9169200" cy="685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6C4509-2C52-4C87-B198-7692F5A0286E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