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B816-7F16-41E1-9FF7-7B9A4297E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8DCD-F6B8-413E-B42F-70CD9F97C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54A3-3E14-48FC-892D-F3173BDA3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061B-417F-47D4-8F35-61D222764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90E8-F934-42E4-AA61-4E83DC7ED2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A4DE-25E9-4652-A3EA-81744B97C6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4842-1782-4682-8DDC-730CD30847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589C-E59D-4515-9FED-6C36EA77E5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E2F1-B274-4580-82C8-C54E75919A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6BE8-8FFF-4347-A607-64E00AA092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1A66-E266-4F3A-A9D7-2C7A54BAB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444B-6BF9-4183-99F9-9E3055FA1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930A1-C834-4DBE-B431-1BB590921B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7606-16EA-466E-A5DA-4E70290C6B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1B1E-7240-4B8C-9087-88FF724E1A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6BC8-8800-4862-9E8F-D41CBDB6AC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9290-2418-4B10-AC08-FF6DF950FF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44B-B7AD-4FD7-AE17-03FC0AED75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AE4-BE76-409B-ADE6-7317EE01CD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110-15C2-478B-B9C4-350AD268F5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0B1-E99F-46D2-853C-AA24B27ADD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B67-2141-4072-B1B1-DCBBD8C071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6A0A-E596-473C-8F47-05C2BDEA2B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559-652F-4F63-86B4-315114251F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721-1E46-403C-8336-46BE612DF6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B4D-E9BB-46A7-8A7D-EE475CC7F5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3D5-7919-4829-9CDD-D8A630C682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8F7-2454-4677-8AE7-10C57D37C0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B81-7ACF-4420-93C4-4A77CDAB2A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ACB-6C99-4A1A-B1F8-20BAEDF32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C313-7E50-4795-8242-9B866CA7D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FB6B-2E02-4699-B6EF-773A15D60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6C49-9D90-4164-B690-4867F6703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A7F0-8893-4543-A329-D24D923D4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0982-E01D-41FE-98F8-245662541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25B5-15FD-4B3E-B1D2-7B930CCFD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681120" indent="-28584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10810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5382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4040" y="655920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7CF3-44D7-41D7-9C3B-86F2626A3D76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Lucida Grande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681120" indent="-28584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10810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5382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995480" indent="-228600">
              <a:spcBef>
                <a:spcPts val="6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4040" y="655920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8594-EBE1-40C5-B255-76D12D8E3E08}" type="slidenum">
              <a:rPr b="0" lang="en-US" sz="1200" spc="-1" strike="noStrike">
                <a:solidFill>
                  <a:srgbClr val="d4d2d0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eorgia Italic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1" marL="63036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2" marL="1030320" indent="-2286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3" marL="1487520" indent="-22860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4" marL="1944720" indent="-228600">
              <a:spcBef>
                <a:spcPts val="601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5" marL="194472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6" marL="194472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464240" y="639252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6664-16EC-432F-929A-F37CB247182B}" type="slidenum"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47400" y="5562720"/>
            <a:ext cx="6386760" cy="1218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90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Lucida Grande"/>
              </a:rPr>
              <a:t>Organic and Geometric SHAPES</a:t>
            </a:r>
            <a:endParaRPr b="0" lang="en-US" sz="2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298000" cy="106668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ctr">
            <a:noAutofit/>
          </a:bodyPr>
          <a:p>
            <a:pPr marL="90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Art in the classroom</a:t>
            </a:r>
            <a:endParaRPr b="0" lang="en-US" sz="3200" spc="-1" strike="noStrike">
              <a:solidFill>
                <a:srgbClr val="d4d2d0"/>
              </a:solidFill>
              <a:latin typeface="Lucida Gran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63920" y="1011240"/>
            <a:ext cx="4127760" cy="38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75463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-1168560"/>
            <a:ext cx="9144000" cy="808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F04-5397-4B89-9E42-BA07E97308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68400" tIns="12600" bIns="12600" anchor="t">
            <a:norm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7038"/>
                </a:solidFill>
                <a:latin typeface="Trebuchet MS"/>
                <a:ea typeface="Trebuchet MS"/>
              </a:rPr>
              <a:t>Art Project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7" name=""/>
          <p:cNvSpPr/>
          <p:nvPr/>
        </p:nvSpPr>
        <p:spPr>
          <a:xfrm>
            <a:off x="944640" y="1638360"/>
            <a:ext cx="7683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You will create you own Peaceable Kingdom ar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hoose two animals that do not live together is peace in the “real world” (lion &amp; bunny, tiger &amp; puppy, fox &amp; duck, mountain &amp; human, etc.)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Pencil - Draw your animals - large, then fill in the leftover spaces with trees, leaves, grass,sky, etc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race over pencil with a black mark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your picture with oil pastel crayons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the outlined bord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68400" tIns="12600" bIns="12600" anchor="t">
            <a:norm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7038"/>
                </a:solidFill>
                <a:latin typeface="Trebuchet MS"/>
                <a:ea typeface="Trebuchet MS"/>
              </a:rPr>
              <a:t>Art Project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9" name=""/>
          <p:cNvSpPr/>
          <p:nvPr/>
        </p:nvSpPr>
        <p:spPr>
          <a:xfrm>
            <a:off x="944640" y="1638360"/>
            <a:ext cx="7683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You will create you own Peaceable Kingdom ar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hoose two animals that do not live together is peace in the “real world” (lion &amp; bunny, tiger &amp; puppy, fox &amp; duck, mountain &amp; human, etc.)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Pencil - Draw your animals - large, then fill in the leftover spaces with trees, leaves, grass,sky, etc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race over pencil with a black mark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your picture with oil pastel crayons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r the outlined border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4568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</a:rPr>
              <a:t>Shape</a:t>
            </a:r>
            <a:r>
              <a:rPr b="1" lang="en-US" sz="1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is one of the basic elements of art. Shape defines an object in space. All shapes are two-dimensional, meaning that they have only length and width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52480" y="1866960"/>
            <a:ext cx="556272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5181480"/>
            <a:ext cx="7493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9000" tIns="12600" bIns="12600" anchor="t">
            <a:noAutofit/>
          </a:bodyPr>
          <a:p>
            <a:pPr marL="5256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ll shapes fall into one of two categories: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5256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eometric or regular shape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  <a:p>
            <a:pPr marL="5256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rganic or free-form shape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120" y="56383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Geometric shapes are precise and man-made. They include mathematical shapes like squares, rectangles, circles, and triangles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2000" y="1176480"/>
            <a:ext cx="1670040" cy="166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08280" y="1547640"/>
            <a:ext cx="2011320" cy="1749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205680" y="3462480"/>
            <a:ext cx="1511280" cy="1590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152280"/>
            <a:ext cx="5892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  <a:ea typeface="Lucida Grande"/>
              </a:rPr>
              <a:t>GEOMETRIC SHAPE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85960" y="3535200"/>
            <a:ext cx="1511280" cy="1517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735600" y="1176480"/>
            <a:ext cx="1743120" cy="17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5705640"/>
            <a:ext cx="84837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rganic shapes seem to follow no rules. They are irregular and uneven. They have a natural look, and may have sides that are lopsided and bumpy, curvy and flowing, uneven or imperfect.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52280"/>
            <a:ext cx="5892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Lucida Grande"/>
                <a:ea typeface="Lucida Grande"/>
              </a:rPr>
              <a:t>ORGANIC SHAPE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20720" y="785880"/>
            <a:ext cx="2517840" cy="19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10160" y="3529080"/>
            <a:ext cx="2524320" cy="192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2057400"/>
            <a:ext cx="2157480" cy="2075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547640" y="3529080"/>
            <a:ext cx="2524320" cy="192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278320" y="633240"/>
            <a:ext cx="2524320" cy="192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4568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-3600" tIns="0" bIns="0" anchor="t">
            <a:normAutofit/>
          </a:bodyPr>
          <a:p>
            <a:pPr marL="77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Lucida Grande"/>
              </a:rPr>
              <a:t>Folk Art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944640" y="1638360"/>
            <a:ext cx="7683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Folk Art is produced by every-day people that reflects their lives, tradition or cultur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se artists are not professionally trained as artists.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y are self taught and use styles and materials from where they liv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y are often described at simple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68400" tIns="12600" bIns="12600" anchor="t">
            <a:norm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7038"/>
                </a:solidFill>
                <a:latin typeface="Trebuchet MS"/>
                <a:ea typeface="Trebuchet MS"/>
              </a:rPr>
              <a:t>Edward Hicks - American Folk Artist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7038"/>
                </a:solidFill>
                <a:latin typeface="Trebuchet MS"/>
                <a:ea typeface="Trebuchet MS"/>
              </a:rPr>
              <a:t>1780-1849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1" name=""/>
          <p:cNvSpPr/>
          <p:nvPr/>
        </p:nvSpPr>
        <p:spPr>
          <a:xfrm>
            <a:off x="843120" y="1308240"/>
            <a:ext cx="7683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nsidered by many as one of America’s leading Folk Artist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By the age of 40, Hicks began a series of paintings that focused on peace - peace in nature and among human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e series of painting are called, “The Peaceable Kingdom”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Trebuchet MS"/>
              </a:rPr>
              <a:t>Hicks produced more than 60 versions of this painting - and painted it over and over throughout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his life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ll the of Peaceable Kingdom paintings vary in some way - a few small details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41120" y="3679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12600" rIns="68400" tIns="12600" bIns="12600" anchor="t">
            <a:norm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7038"/>
                </a:solidFill>
                <a:latin typeface="Trebuchet MS"/>
                <a:ea typeface="Trebuchet MS"/>
              </a:rPr>
              <a:t>The Peaceable Kingdom</a:t>
            </a:r>
            <a:endParaRPr b="0" lang="en-US" sz="4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3" name=""/>
          <p:cNvSpPr/>
          <p:nvPr/>
        </p:nvSpPr>
        <p:spPr>
          <a:xfrm>
            <a:off x="944640" y="1638360"/>
            <a:ext cx="7683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3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Wild animals sitting next to farm animals (lions and lambs; bears and cows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Small children surrounded by wild animals - creating a sense of communit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lonists and Native Americans gathering in the background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Trebuchet MS"/>
              </a:rPr>
              <a:t>Many of the shapes and forms in the painting appear organic, flowing and soft - this is also a way for an artist to demonstrate peace and tranquilit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75463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D0E-CCBB-4343-B35C-E18360BDF089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eorgia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75463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-1104840"/>
            <a:ext cx="9144000" cy="798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5B6-3B72-4F64-B492-B7B81BBF29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rina Hase</dc:creator>
  <dc:description/>
  <dc:language>en-US</dc:language>
  <cp:lastModifiedBy/>
  <cp:revision>0</cp:revision>
  <dc:subject/>
  <dc:title>PowerPoint Presentation</dc:title>
</cp:coreProperties>
</file>