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E9D9-F89A-4A7A-AEF2-E0F3A0C31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D8C0-6D22-4445-94DE-ECCFD8D6B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0443-FE09-48AF-9C8F-F574BEC44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5C52-2E5B-438C-A347-56542C836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07E4-CCFB-450F-A7F3-C25AD8650C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EE5F-BC4B-4300-970E-7091741768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0DA5-408A-493A-A5DA-07C469308A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E06A-F43A-4143-BD97-A74A0548D7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6028-5D19-4A05-BFB6-0B85F02CDE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22C7-9573-41DE-983B-A8E6299A0C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E645-2530-4F23-A516-10CEE738D9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64CA-B881-40AE-AC71-192DE0A27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ABF4-1FA0-4381-9BBE-8EBCB89931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9675-07AD-4073-90A4-D443A95F56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8459-AFAD-4B74-BC8E-8435DED9FB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9F01-217B-4C2B-A6B0-D097A06C69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530A-3DB5-49AC-BB59-F1CFA9844C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A0F-C143-4601-A021-8E6B81B13D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DB1-E238-4597-A17A-358AC2C74C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916-4A09-4727-896F-AB2D757E16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15A-5C33-4FD8-B8C4-2D268549B7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262-7357-4BC2-A7D4-596B0567F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5679-8B28-44B4-881B-EBBF5A66CA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4B3-E224-4636-A97C-860B4D594C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566-68B1-43F4-AC90-DCECC7CF8C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73E-85C8-4929-B11A-48E0249D51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E7E-2AD6-40B2-8CBB-18D7580E9E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87D-F081-4AC5-9AFC-8B2050C412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5F8-ACCD-4E29-B4E3-15294BA156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91F-A766-45C9-B6A9-C30277465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EF6D-3552-4AD1-A4A5-224ACE620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E7D5-1EE5-46B6-BBC8-3294F500B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A3D9-9E8F-40BD-8D23-E95DDF0BB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0E50-EBC2-4D84-80BE-F7E7D68C2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31F6-0C0C-4257-BD61-D38E0390F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BE4C-D270-4B97-B314-95942AE31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681120" indent="-28584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10810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5382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4040" y="655920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E94B-9C26-43C2-85CB-0E8DCEB681F8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681120" indent="-28584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10810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5382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4040" y="655920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6B9C-95B5-4732-A4C0-E9911249FBA8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eorgia Italic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1" marL="63036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2" marL="1030320" indent="-2286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3" marL="1487520" indent="-22860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4" marL="1944720" indent="-228600">
              <a:spcBef>
                <a:spcPts val="601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5" marL="194472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6" marL="194472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464240" y="639252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FBFF-0EDF-42D3-AF83-AAE7A02D9C1E}" type="slidenum"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47400" y="5562720"/>
            <a:ext cx="6386760" cy="1218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90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Lucida Grande"/>
              </a:rPr>
              <a:t>Organic and Geometric SHAPES</a:t>
            </a:r>
            <a:endParaRPr b="0" lang="en-US" sz="2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298000" cy="106668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ctr">
            <a:noAutofit/>
          </a:bodyPr>
          <a:p>
            <a:pPr marL="90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rt in the classroom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63920" y="1011240"/>
            <a:ext cx="4127760" cy="38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75463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-1168560"/>
            <a:ext cx="9144000" cy="808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09F-1ACB-43B3-9433-BDDC3824E6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68400" tIns="12600" bIns="12600" anchor="t">
            <a:norm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7038"/>
                </a:solidFill>
                <a:latin typeface="Trebuchet MS"/>
                <a:ea typeface="Trebuchet MS"/>
              </a:rPr>
              <a:t>Art Project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7" name=""/>
          <p:cNvSpPr/>
          <p:nvPr/>
        </p:nvSpPr>
        <p:spPr>
          <a:xfrm>
            <a:off x="944640" y="1638360"/>
            <a:ext cx="7683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You will create you own Peaceable Kingdom ar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hoose two animals that do not live together is peace in the “real world” (lion &amp; bunny, tiger &amp; puppy, fox &amp; duck, mountain &amp; human, etc.)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Pencil - Draw your animals - large, then fill in the leftover spaces with trees, leaves, grass,sky, etc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race over pencil with a black mark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your picture with oil pastel crayons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the outlined bord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68400" tIns="12600" bIns="12600" anchor="t">
            <a:norm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7038"/>
                </a:solidFill>
                <a:latin typeface="Trebuchet MS"/>
                <a:ea typeface="Trebuchet MS"/>
              </a:rPr>
              <a:t>Art Project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9" name=""/>
          <p:cNvSpPr/>
          <p:nvPr/>
        </p:nvSpPr>
        <p:spPr>
          <a:xfrm>
            <a:off x="944640" y="1638360"/>
            <a:ext cx="7683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You will create you own Peaceable Kingdom ar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hoose two animals that do not live together is peace in the “real world” (lion &amp; bunny, tiger &amp; puppy, fox &amp; duck, mountain &amp; human, etc.)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Pencil - Draw your animals - large, then fill in the leftover spaces with trees, leaves, grass,sky, etc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race over pencil with a black mark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your picture with oil pastel crayons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the outlined bord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4568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</a:rPr>
              <a:t>Shape</a:t>
            </a:r>
            <a:r>
              <a:rPr b="1" lang="en-US" sz="1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is one of the basic elements of art. Shape defines an object in space. All shapes are two-dimensional, meaning that they have only length and width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52480" y="1866960"/>
            <a:ext cx="556272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5181480"/>
            <a:ext cx="7493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9000" tIns="12600" bIns="12600" anchor="t">
            <a:noAutofit/>
          </a:bodyPr>
          <a:p>
            <a:pPr marL="5256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ll shapes fall into one of two categories: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5256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eometric or regular shape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5256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rganic or free-form shape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120" y="56383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Geometric shapes are precise and man-made. They include mathematical shapes like squares, rectangles, circles, and triangles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2000" y="1176480"/>
            <a:ext cx="1670040" cy="166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08280" y="1547640"/>
            <a:ext cx="2011320" cy="1749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205680" y="3462480"/>
            <a:ext cx="1511280" cy="1590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152280"/>
            <a:ext cx="5892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  <a:ea typeface="Lucida Grande"/>
              </a:rPr>
              <a:t>GEOMETRIC SHAPE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85960" y="3535200"/>
            <a:ext cx="1511280" cy="1517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735600" y="1176480"/>
            <a:ext cx="1743120" cy="17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5705640"/>
            <a:ext cx="84837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rganic shapes seem to follow no rules. They are irregular and uneven. They have a natural look, and may have sides that are lopsided and bumpy, curvy and flowing, uneven or imperfect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52280"/>
            <a:ext cx="5892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  <a:ea typeface="Lucida Grande"/>
              </a:rPr>
              <a:t>ORGANIC SHAPE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20720" y="785880"/>
            <a:ext cx="2517840" cy="19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10160" y="3529080"/>
            <a:ext cx="2524320" cy="192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2057400"/>
            <a:ext cx="2157480" cy="2075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547640" y="3529080"/>
            <a:ext cx="2524320" cy="192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278320" y="633240"/>
            <a:ext cx="2524320" cy="192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4568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Lucida Grande"/>
              </a:rPr>
              <a:t>Folk Art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944640" y="1638360"/>
            <a:ext cx="7683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Folk Art is produced by every-day people that reflects their lives, tradition or cultur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se artists are not professionally trained as artists.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y are self taught and use styles and materials from where they liv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y are often described at simpl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68400" tIns="12600" bIns="12600" anchor="t">
            <a:norm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7038"/>
                </a:solidFill>
                <a:latin typeface="Trebuchet MS"/>
                <a:ea typeface="Trebuchet MS"/>
              </a:rPr>
              <a:t>Edward Hicks - American Folk Artist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7038"/>
                </a:solidFill>
                <a:latin typeface="Trebuchet MS"/>
                <a:ea typeface="Trebuchet MS"/>
              </a:rPr>
              <a:t>1780-1849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1" name=""/>
          <p:cNvSpPr/>
          <p:nvPr/>
        </p:nvSpPr>
        <p:spPr>
          <a:xfrm>
            <a:off x="843120" y="1308240"/>
            <a:ext cx="7683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nsidered by many as one of America’s leading Folk Artist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By the age of 40, Hicks began a series of paintings that focused on peace - peace in nature and among human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 series of painting are called, “The Peaceable Kingdom”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Hicks produced more than 60 versions of this painting - and painted it over and over throughout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his life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ll the of Peaceable Kingdom paintings vary in some way - a few small detail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68400" tIns="12600" bIns="12600" anchor="t">
            <a:norm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7038"/>
                </a:solidFill>
                <a:latin typeface="Trebuchet MS"/>
                <a:ea typeface="Trebuchet MS"/>
              </a:rPr>
              <a:t>The Peaceable Kingdom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3" name=""/>
          <p:cNvSpPr/>
          <p:nvPr/>
        </p:nvSpPr>
        <p:spPr>
          <a:xfrm>
            <a:off x="944640" y="1638360"/>
            <a:ext cx="7683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Wild animals sitting next to farm animals (lions and lambs; bears and cows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Small children surrounded by wild animals - creating a sense of communit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nists and Native Americans gathering in the background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Many of the shapes and forms in the painting appear organic, flowing and soft - this is also a way for an artist to demonstrate peace and tranquilit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75463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24A-C693-4135-AE59-E4CFE2E4A1DD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75463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-1104840"/>
            <a:ext cx="9144000" cy="798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073-114E-4B76-84AB-77F44FAB1D1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rina Hase</dc:creator>
  <dc:description/>
  <dc:language>en-US</dc:language>
  <cp:lastModifiedBy/>
  <cp:revision>0</cp:revision>
  <dc:subject/>
  <dc:title>PowerPoint Presentation</dc:title>
</cp:coreProperties>
</file>