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9172-9E8A-4CEE-B321-D840E76E7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9296-09AE-439E-907D-793A8002C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5DE0-2110-4D25-9355-0322D9308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608C-0634-499D-BB29-B0FCD245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55DA-6001-48D5-8A13-B0EAB2E8DB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BB68-B7B4-4A1D-8BB7-CD3BF9E669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1DFB-8D56-4E4D-8636-69EA1764D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5830-6A58-4584-AC04-BDF055466B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9ACB-6DFA-4FBE-882A-C377A9D90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1F3D-89F0-4E44-8F46-53462CF06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0F97-2BDC-4B23-9FD7-BD9C98511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D96E-D983-4F6D-9BD0-F7AA069CD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1171-9D0E-4F0F-ADE1-50D178409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947A-C8C7-4CBF-8E6B-88BFBC8733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90D8-45C3-48F4-8B7C-9D9663A9C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7014-57C2-49C6-8567-774B1403AB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0C62-C6EB-49D5-A6D4-C7A8E06762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6AC-313C-48C7-9935-40021BFD14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966-21B2-4507-85E8-C72130F574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924-43D8-4290-A5A0-E334D9D83A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789-3394-4307-9581-629F689E32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D9A-05F7-4232-B98B-EE7018D6B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F72A-C510-40EA-9D16-3C700154C0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F79-8892-49AD-BFD4-0FBF723713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9E2-D9F8-4170-A8E8-6324EB3742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E50-1C16-4078-ABF5-53F1688C4E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160-ECA9-41DB-AAFB-FFDA57755C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96-63DF-45AA-9366-5A6D5AF2E4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E9B-FCC5-450D-A6FB-C6C39AD1BC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96C-4A61-451C-82C7-756E52DDA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F378-C8EA-4A10-871F-91F16859D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5154-FD4C-4D11-A336-1A0998CB0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50DF-3E51-4E1C-AB1C-4DFE73178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01AB-E185-4282-A565-B931056E1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A662-6088-441C-A84D-6D2A9FB31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8EB3-B1CB-43B6-99D0-8CD19C1DF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73188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1318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890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548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5360-8C5B-4199-88C8-32C3EC183996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73188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1318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890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204624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5480" y="655920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456-B67C-4E6F-B437-9141082B89E7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 Italic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68112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081080" indent="-2286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538280" indent="-22860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1995480" indent="-228600">
              <a:spcBef>
                <a:spcPts val="601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19954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19954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64240" y="6392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C858-39AB-43B9-9BEC-3DB5D7082675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7400" y="5562720"/>
            <a:ext cx="6386760" cy="1218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Lucida Grande"/>
              </a:rPr>
              <a:t>Organic and Geometric SHAPES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63920" y="1011240"/>
            <a:ext cx="4127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-1168560"/>
            <a:ext cx="9144000" cy="808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ED2-198F-4863-8D8F-A71794A86A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944640" y="1638360"/>
            <a:ext cx="76708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Shap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one of the basic elements of art. Shape defines an object in space. All shapes are two-dimensional, meaning that they have only length and width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1866960"/>
            <a:ext cx="556272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5181480"/>
            <a:ext cx="7480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651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ll shapes fall into one of two categories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651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metric or regular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65160">
              <a:lnSpc>
                <a:spcPct val="11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or free-form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56383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eometric shapes are precise and man-made. They include mathematical shapes like squares, rectangles, circles, and triangle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176480"/>
            <a:ext cx="167004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08280" y="1547640"/>
            <a:ext cx="201132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05680" y="3462480"/>
            <a:ext cx="151128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52280"/>
            <a:ext cx="58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GEOMETR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85960" y="3535200"/>
            <a:ext cx="1511280" cy="151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735600" y="1176480"/>
            <a:ext cx="1743120" cy="17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05640"/>
            <a:ext cx="8470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shapes seem to follow no rules. They are irregular and uneven. They have a natural look, and may have sides that are lopsided and bumpy, curvy and flowing, uneven or imperfect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280"/>
            <a:ext cx="588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ORGAN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20720" y="785880"/>
            <a:ext cx="2517840" cy="19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1016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2157480" cy="2075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78320" y="633240"/>
            <a:ext cx="2524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-3600" tIns="12600" bIns="12600" anchor="t">
            <a:normAutofit/>
          </a:bodyPr>
          <a:p>
            <a:pPr marL="65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Lucida Grande"/>
              </a:rPr>
              <a:t>Folk Ar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944640" y="1638360"/>
            <a:ext cx="76708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Folk Art is produced by every-day people that reflects their lives, tradition or cultur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se artists are not professionally trained as artists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self taught and use styles and materials from where they liv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often described at simpl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Edward Hicks - American Folk Artist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1780-1849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43120" y="1308240"/>
            <a:ext cx="7670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nsidered by many as one of America’s leading Folk Artist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By the age of 40, Hicks began a series of paintings that focused on peace - peace in nature and among human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 series of painting are called, “The Peaceable Kingdom”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cks produced more than 60 versions of this painting - and painted it over and over throughout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s lif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 the of Peaceable Kingdom paintings vary in some way - a few small detail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3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81360" tIns="12600" bIns="12600" anchor="t">
            <a:normAutofit/>
          </a:bodyPr>
          <a:p>
            <a:pPr marL="66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The Peaceable Kingdom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"/>
          <p:cNvSpPr/>
          <p:nvPr/>
        </p:nvSpPr>
        <p:spPr>
          <a:xfrm>
            <a:off x="944640" y="1638360"/>
            <a:ext cx="76708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ild animals sitting next to farm animals (lions and lambs; bears and cow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Small children surrounded by wild animals - creating a sense of commun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nists and Native Americans gathering in the backgroun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ny of the shapes and forms in the painting appear organic, flowing and soft - this is also a way for an artist to demonstrate peace and tranquil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EFA-CBAF-4265-A87C-E0F4131683C2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75409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104840"/>
            <a:ext cx="9144000" cy="798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2A8-5A7B-45FC-A6BD-8D0CB7137D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rina Hase</dc:creator>
  <dc:description/>
  <dc:language>en-US</dc:language>
  <cp:lastModifiedBy/>
  <cp:revision>0</cp:revision>
  <dc:subject/>
  <dc:title>PowerPoint Presentation</dc:title>
</cp:coreProperties>
</file>