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EC80-BDB6-4595-BFE5-D71F513E1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2A67-BA6E-430C-9A92-639D72341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3032-A74F-4CDD-87BE-914541AE8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15A4-F100-43E0-BB40-35703B345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7F7E-67C6-444E-9607-BCAE393E8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C298-D9D5-4262-821B-B1B7A7405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7B1B-6C73-43FD-953D-BD178440F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6AA7-1091-462F-AF49-9A28A807FC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BE0B-829D-4AA5-A44E-AF6D8F9330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22A5-2968-4FA7-A803-D2B4C4C85F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64A3-2440-4989-84F1-5428F13A6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333C-2EA6-4102-86BD-297E01122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CCE0-451A-4F97-AF0F-9C8EC3D1EA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19A5-D1A2-4D7A-ACD1-0C5FD82CB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5ACB-73BE-416E-85A4-F879E6544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EFC7-7894-47C1-98EB-A62170C2F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E7D2-22CA-49C3-906B-F6C0407532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D4C-FB4E-42CA-997F-E581B54742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336-4197-45E8-AE6C-2657EC987A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92D-0FE9-46EB-BCC1-EA91EDEEBD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52E-07DD-4076-B1B0-6A225FDB8D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C8F-8172-4F25-BE82-C5EB52DBC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2CE2-8F79-4FEF-80B1-2904F7F726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D3D-A801-4166-BAF0-DA9D5AD1B4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999-BCBC-48CB-979F-70856DADF8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BCC-FA5E-4F86-8B05-1AFA1ED163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A31-81C2-4DB4-8FF3-DA6CC43BDD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858-3125-4066-8DCE-7663840630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4CE-1052-4995-8237-3BB8038750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488-94EC-40CC-B1DA-AB9FC1496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C993-82AA-4DFD-B9D9-BF387BDD5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C7CE-649C-4F45-A00E-6DCBFF6A9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4F4B-BAB6-42EA-A413-BAB27D1D7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4CE1-DA8A-4A83-B0D7-5F46CDA8D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FD21-81C1-4A21-B99D-AA90FFDC7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F417-54FA-481F-A3BD-D5A8A7451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73188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1318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890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548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3D7-FE13-404B-B33C-56210298EEB8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73188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1318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890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548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444B-320C-4383-883A-8BD1985F6368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 Italic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68112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081080" indent="-2286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538280" indent="-22860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1995480" indent="-228600">
              <a:spcBef>
                <a:spcPts val="601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19954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19954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64240" y="6392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0E07-4879-448F-9E86-87155CAAD39C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7400" y="5562720"/>
            <a:ext cx="6386760" cy="1218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Lucida Grande"/>
              </a:rPr>
              <a:t>Organic and Geometric SHAPES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63920" y="1011240"/>
            <a:ext cx="4127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-1168560"/>
            <a:ext cx="9144000" cy="808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7D7-FE23-47E6-9315-16D6CC635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944640" y="1638360"/>
            <a:ext cx="76708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Shap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one of the basic elements of art. Shape defines an object in space. All shapes are two-dimensional, meaning that they have only length and width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1866960"/>
            <a:ext cx="556272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5181480"/>
            <a:ext cx="7480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651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ll shapes fall into one of two categories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651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metric or regular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65160">
              <a:lnSpc>
                <a:spcPct val="11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or free-form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56383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eometric shapes are precise and man-made. They include mathematical shapes like squares, rectangles, circles, and triangle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176480"/>
            <a:ext cx="167004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08280" y="1547640"/>
            <a:ext cx="201132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05680" y="3462480"/>
            <a:ext cx="151128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52280"/>
            <a:ext cx="58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GEOMETR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85960" y="3535200"/>
            <a:ext cx="1511280" cy="151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735600" y="1176480"/>
            <a:ext cx="1743120" cy="17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05640"/>
            <a:ext cx="8470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shapes seem to follow no rules. They are irregular and uneven. They have a natural look, and may have sides that are lopsided and bumpy, curvy and flowing, uneven or imperfect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280"/>
            <a:ext cx="58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ORGAN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20720" y="785880"/>
            <a:ext cx="2517840" cy="19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1016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2157480" cy="2075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78320" y="633240"/>
            <a:ext cx="2524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Lucida Grande"/>
              </a:rPr>
              <a:t>Folk Ar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944640" y="1638360"/>
            <a:ext cx="76708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Folk Art is produced by every-day people that reflects their lives, tradition or cultur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se artists are not professionally trained as artists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self taught and use styles and materials from where they liv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often described at simpl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Edward Hicks - American Folk Artist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1780-1849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43120" y="1308240"/>
            <a:ext cx="7670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nsidered by many as one of America’s leading Folk Artist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By the age of 40, Hicks began a series of paintings that focused on peace - peace in nature and among human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 series of painting are called, “The Peaceable Kingdom”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cks produced more than 60 versions of this painting - and painted it over and over throughout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s lif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 the of Peaceable Kingdom paintings vary in some way - a few small detail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The Peaceable Kingdom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"/>
          <p:cNvSpPr/>
          <p:nvPr/>
        </p:nvSpPr>
        <p:spPr>
          <a:xfrm>
            <a:off x="944640" y="1638360"/>
            <a:ext cx="76708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ild animals sitting next to farm animals (lions and lambs; bears and cow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Small children surrounded by wild animals - creating a sense of commun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nists and Native Americans gathering in the backgroun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ny of the shapes and forms in the painting appear organic, flowing and soft - this is also a way for an artist to demonstrate peace and tranquil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051-369E-4A6E-BA58-EFA67F6217BF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104840"/>
            <a:ext cx="9144000" cy="798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2CA-6E3D-4F0E-9EFC-55BA44339A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rina Hase</dc:creator>
  <dc:description/>
  <dc:language>en-US</dc:language>
  <cp:lastModifiedBy/>
  <cp:revision>0</cp:revision>
  <dc:subject/>
  <dc:title>PowerPoint Presentation</dc:title>
</cp:coreProperties>
</file>